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4FF-5BB6-4C29-8729-25021402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C48-06FE-4053-A72D-B54FE35F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B90-0B5F-4F92-B5FA-40274388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F1F-2271-42D0-AA1E-2CB9619E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91E-8283-411F-9B17-78F854D4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21E8-3DDD-4CA2-A755-4F66EB0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CDE0-BC21-4892-B357-D11AE82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171-6F9A-43B1-8FCD-BD76A2AD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A1EF-0B76-458E-9771-3ABD9204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6936-A6C0-4639-A130-34EF35B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94A-9020-4F3B-8886-F5809B4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A9C-2339-423C-93FE-83F9CED5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5A2-8005-4062-B2CE-04DD281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F316-1FF9-4486-8879-1DA2255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18E2-7A5B-40BA-9911-AFEF559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F400-F7C6-4943-9E5B-9276F35B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336-931F-4E6A-975B-8576A4A3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EE3-E945-4173-AC8F-F892B48C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730-17BE-4EF7-8FB4-20E5581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CFD-2672-4CA6-8A6A-75C568B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36E-9A67-41DC-9DC8-982DA807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DB5-BFC8-45A9-BA4F-C27BC0C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96B-450B-4593-A693-1DC4831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B87-0E25-4150-97B9-734C4F5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89E-E642-43A2-8267-57E0DD46FD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D42F-CA88-48A9-8171-DC77CEDBF3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Спирты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i"/>
          <p:cNvPicPr/>
          <p:nvPr/>
        </p:nvPicPr>
        <p:blipFill>
          <a:blip r:embed="rId1"/>
          <a:stretch/>
        </p:blipFill>
        <p:spPr>
          <a:xfrm>
            <a:off x="228600" y="68580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extBox 3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250920" y="1844640"/>
            <a:ext cx="428616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ая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2199240" y="3141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1" i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cxnSp>
        <p:nvCxnSpPr>
          <p:cNvPr id="211" name="Прямая со стрелкой 8"/>
          <p:cNvCxnSpPr/>
          <p:nvPr/>
        </p:nvCxnSpPr>
        <p:spPr>
          <a:xfrm>
            <a:off x="3203280" y="3357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TextBox 10"/>
          <p:cNvSpPr/>
          <p:nvPr/>
        </p:nvSpPr>
        <p:spPr>
          <a:xfrm>
            <a:off x="250920" y="4005360"/>
            <a:ext cx="52862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ая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cxnSp>
        <p:nvCxnSpPr>
          <p:cNvPr id="213" name="Прямая со стрелкой 12"/>
          <p:cNvCxnSpPr/>
          <p:nvPr/>
        </p:nvCxnSpPr>
        <p:spPr>
          <a:xfrm>
            <a:off x="4211280" y="5157360"/>
            <a:ext cx="1215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Прямоугольник 13"/>
          <p:cNvSpPr/>
          <p:nvPr/>
        </p:nvSpPr>
        <p:spPr>
          <a:xfrm>
            <a:off x="1262520" y="4869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1" i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Прямоугольник 14"/>
          <p:cNvSpPr/>
          <p:nvPr/>
        </p:nvSpPr>
        <p:spPr>
          <a:xfrm>
            <a:off x="2198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1" i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Прямоугольник 11"/>
          <p:cNvSpPr/>
          <p:nvPr/>
        </p:nvSpPr>
        <p:spPr>
          <a:xfrm>
            <a:off x="54216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1" i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5786280" y="3143160"/>
            <a:ext cx="2643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Прямоугольник 17"/>
          <p:cNvSpPr/>
          <p:nvPr/>
        </p:nvSpPr>
        <p:spPr>
          <a:xfrm>
            <a:off x="6143760" y="4857840"/>
            <a:ext cx="3000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-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630072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i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6732720" y="5445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этиловый эфир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45712 -0.00093 E">
                                      <p:cBhvr>
                                        <p:cTn id="17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32292 -0.00093 E">
                                      <p:cBhvr>
                                        <p:cTn id="173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6E-007 L 0.47483 -0.00046 E">
                                      <p:cBhvr>
                                        <p:cTn id="19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34045 0.00115 E">
                                      <p:cBhvr>
                                        <p:cTn id="20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5" descr="U19_08"/>
          <p:cNvPicPr/>
          <p:nvPr/>
        </p:nvPicPr>
        <p:blipFill>
          <a:blip r:embed="rId1"/>
          <a:stretch/>
        </p:blipFill>
        <p:spPr>
          <a:xfrm>
            <a:off x="1566720" y="1760400"/>
            <a:ext cx="5519880" cy="16574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500040" y="392904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олее слабом нагревании этилового спирта с серной кислотой образуется диэтиловый эфир. Это летучая, легко воспламеняющаяся жидкость. Диэтиловый эфир относится к класс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х эфир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ических веществ, молекулы которых состоят из двух углеводородных радикалов, соединённых посредством атома кислорода. Общая форму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O -  R</a:t>
            </a:r>
            <a:endParaRPr b="1" i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Правило Зайце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Группа 9"/>
          <p:cNvGrpSpPr/>
          <p:nvPr/>
        </p:nvGrpSpPr>
        <p:grpSpPr>
          <a:xfrm>
            <a:off x="357120" y="1643040"/>
            <a:ext cx="8358120" cy="2005560"/>
            <a:chOff x="357120" y="1643040"/>
            <a:chExt cx="8358120" cy="2005560"/>
          </a:xfrm>
        </p:grpSpPr>
        <p:sp>
          <p:nvSpPr>
            <p:cNvPr id="226" name="Rectangle 12"/>
            <p:cNvSpPr/>
            <p:nvPr/>
          </p:nvSpPr>
          <p:spPr>
            <a:xfrm>
              <a:off x="4435200" y="2355840"/>
              <a:ext cx="1441440" cy="647640"/>
            </a:xfrm>
            <a:prstGeom prst="rect">
              <a:avLst/>
            </a:prstGeom>
            <a:solidFill>
              <a:srgbClr val="ff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3643200" y="2428920"/>
              <a:ext cx="1441440" cy="503280"/>
            </a:xfrm>
            <a:prstGeom prst="rect">
              <a:avLst/>
            </a:prstGeom>
            <a:solidFill>
              <a:srgbClr val="ff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28" name="Text Box 5"/>
            <p:cNvSpPr/>
            <p:nvPr/>
          </p:nvSpPr>
          <p:spPr>
            <a:xfrm>
              <a:off x="357120" y="1643040"/>
              <a:ext cx="8358120" cy="20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</a:rPr>
                <a:t>3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 – СН - СН – 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</a:rPr>
                <a:t>2</a:t>
              </a:r>
              <a:endParaRPr b="1" i="1" lang="en-US" sz="14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    </a:t>
              </a:r>
              <a:endParaRPr b="1" i="1" lang="en-US" sz="18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      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Н      ОН     Н</a:t>
              </a:r>
              <a:endParaRPr b="1" i="1" lang="en-US" sz="1800" spc="-1" strike="noStrike">
                <a:solidFill>
                  <a:srgbClr val="0066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90%                                                                             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</a:rPr>
                <a:t>  100%</a:t>
              </a:r>
              <a:endParaRPr b="1" i="1" lang="en-US" sz="1800" spc="-1" strike="noStrike">
                <a:solidFill>
                  <a:srgbClr val="0066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–СН = СН – 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  <a:ea typeface="Arial"/>
                </a:rPr>
                <a:t>3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                                                  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  <a:ea typeface="Arial"/>
                </a:rPr>
                <a:t>3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– 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949432"/>
                  </a:solidFill>
                  <a:latin typeface="Arial"/>
                  <a:ea typeface="Arial"/>
                </a:rPr>
                <a:t> - СН = СН</a:t>
              </a:r>
              <a:r>
                <a:rPr b="0" lang="ru-RU" sz="1400" spc="-1" strike="noStrike">
                  <a:solidFill>
                    <a:srgbClr val="949432"/>
                  </a:solidFill>
                  <a:latin typeface="Arial"/>
                  <a:ea typeface="Arial"/>
                </a:rPr>
                <a:t>2</a:t>
              </a:r>
              <a:endParaRPr b="1" i="1" lang="en-US" sz="1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H="1">
              <a:off x="1428120" y="2214360"/>
              <a:ext cx="215892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5929200" y="2143080"/>
              <a:ext cx="1811160" cy="10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231" name="Прямоугольник 9"/>
          <p:cNvSpPr/>
          <p:nvPr/>
        </p:nvSpPr>
        <p:spPr>
          <a:xfrm>
            <a:off x="285840" y="4214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молекулярная дегидратация несимметричных алканолов протекает в соответствии 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м Зайце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которому водород отщепляется преимущественно от наименее гидрогенизированного атома углерода и образуется более устойчивый алкен.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6040" y="122400"/>
            <a:ext cx="7464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Реакции окис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2193480"/>
            <a:ext cx="45766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 спиртов проис-ходит и под действием силь-ных окислителей. Характер получаемых при этом продук-тов определяется степенью замещённости спиртов, а так-же  природой применяемого окисл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5214960" y="1714680"/>
            <a:ext cx="3371760" cy="41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6" name="Picture 7" descr="o25132"/>
          <p:cNvPicPr/>
          <p:nvPr/>
        </p:nvPicPr>
        <p:blipFill>
          <a:blip r:embed="rId1"/>
          <a:stretch/>
        </p:blipFill>
        <p:spPr>
          <a:xfrm>
            <a:off x="1752480" y="4170240"/>
            <a:ext cx="4724640" cy="163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o25131"/>
          <p:cNvPicPr/>
          <p:nvPr/>
        </p:nvPicPr>
        <p:blipFill>
          <a:blip r:embed="rId2"/>
          <a:stretch/>
        </p:blipFill>
        <p:spPr>
          <a:xfrm>
            <a:off x="915840" y="2238480"/>
            <a:ext cx="7237440" cy="1709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4674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ислители - KMnO4, K2Cr2O7+H2SO4, O2+катализатор. Легкость окисления спиртов уменьшается в ряду:  первичные &gt; вторичные &gt; третичны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5"/>
          <p:cNvSpPr/>
          <p:nvPr/>
        </p:nvSpPr>
        <p:spPr>
          <a:xfrm>
            <a:off x="395280" y="2714760"/>
            <a:ext cx="85694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O  →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 + 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Прямая соединительная линия 7"/>
          <p:cNvSpPr/>
          <p:nvPr/>
        </p:nvSpPr>
        <p:spPr>
          <a:xfrm flipV="1">
            <a:off x="6072120" y="264312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Прямая соединительная линия 8"/>
          <p:cNvSpPr/>
          <p:nvPr/>
        </p:nvSpPr>
        <p:spPr>
          <a:xfrm flipV="1">
            <a:off x="6000840" y="2571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Прямая соединительная линия 10"/>
          <p:cNvSpPr/>
          <p:nvPr/>
        </p:nvSpPr>
        <p:spPr>
          <a:xfrm>
            <a:off x="6000120" y="3143160"/>
            <a:ext cx="21420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4214880" y="2286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6215040" y="214308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43760" y="32860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6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116000" y="3213000"/>
            <a:ext cx="480708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378-E845-496D-82BB-088DB88384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347760"/>
            <a:ext cx="856944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Спирт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539640" y="1125360"/>
            <a:ext cx="835344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66840" y="119700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имические свойства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989440" y="1772280"/>
            <a:ext cx="34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Реакции  замещения 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962640" y="2923200"/>
            <a:ext cx="67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заимодействии спиртов с галогенопроизводными</a:t>
            </a:r>
            <a:endParaRPr b="1" i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37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260" name="Object 14"/>
          <p:cNvGraphicFramePr/>
          <p:nvPr/>
        </p:nvGraphicFramePr>
        <p:xfrm>
          <a:off x="250920" y="3500280"/>
          <a:ext cx="87278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8727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5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3300"/>
                </a:solidFill>
                <a:latin typeface="Arial"/>
              </a:rPr>
              <a:t>Общие способы получ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 галогенпроизводных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Cl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R –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NaC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кисление алкен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4191120" y="3200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 flipH="1">
            <a:off x="1523880" y="3581280"/>
            <a:ext cx="22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 flipH="1" flipV="1">
            <a:off x="1371600" y="3504960"/>
            <a:ext cx="20808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16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1" name="Picture 20" descr="o260"/>
          <p:cNvPicPr/>
          <p:nvPr/>
        </p:nvPicPr>
        <p:blipFill>
          <a:blip r:embed="rId1"/>
          <a:stretch/>
        </p:blipFill>
        <p:spPr>
          <a:xfrm>
            <a:off x="838080" y="4876920"/>
            <a:ext cx="5715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6"/>
          <p:cNvSpPr/>
          <p:nvPr/>
        </p:nvSpPr>
        <p:spPr>
          <a:xfrm>
            <a:off x="5508720" y="4797360"/>
            <a:ext cx="576000" cy="1511280"/>
          </a:xfrm>
          <a:prstGeom prst="can">
            <a:avLst>
              <a:gd name="adj" fmla="val 12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5500800" y="5929200"/>
            <a:ext cx="576000" cy="719280"/>
          </a:xfrm>
          <a:prstGeom prst="can">
            <a:avLst>
              <a:gd name="adj" fmla="val 13449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4" name="Group 11" descr=""/>
          <p:cNvPicPr/>
          <p:nvPr/>
        </p:nvPicPr>
        <p:blipFill>
          <a:blip r:embed="rId1"/>
          <a:stretch/>
        </p:blipFill>
        <p:spPr>
          <a:xfrm>
            <a:off x="6918480" y="4773600"/>
            <a:ext cx="598320" cy="1895400"/>
          </a:xfrm>
          <a:prstGeom prst="rect">
            <a:avLst/>
          </a:prstGeom>
          <a:ln w="0">
            <a:noFill/>
          </a:ln>
        </p:spPr>
      </p:pic>
      <p:sp>
        <p:nvSpPr>
          <p:cNvPr id="275" name="Oval 13"/>
          <p:cNvSpPr/>
          <p:nvPr/>
        </p:nvSpPr>
        <p:spPr>
          <a:xfrm>
            <a:off x="5796000" y="458136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5072040" y="6286680"/>
            <a:ext cx="13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i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6500880" y="62866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1" i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8" name="TextBox 10" descr=""/>
          <p:cNvPicPr/>
          <p:nvPr/>
        </p:nvPicPr>
        <p:blipFill>
          <a:blip r:embed="rId2"/>
          <a:stretch/>
        </p:blipFill>
        <p:spPr>
          <a:xfrm>
            <a:off x="-6480" y="12852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1"/>
          <p:cNvSpPr/>
          <p:nvPr/>
        </p:nvSpPr>
        <p:spPr>
          <a:xfrm>
            <a:off x="214200" y="1571760"/>
            <a:ext cx="2214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Прямая соединительная линия 13"/>
          <p:cNvSpPr/>
          <p:nvPr/>
        </p:nvSpPr>
        <p:spPr>
          <a:xfrm flipH="1">
            <a:off x="42876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Прямая соединительная линия 16"/>
          <p:cNvSpPr/>
          <p:nvPr/>
        </p:nvSpPr>
        <p:spPr>
          <a:xfrm flipH="1">
            <a:off x="142884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0" y="2357280"/>
            <a:ext cx="24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ОН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179280" y="2781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5715000" y="1571760"/>
            <a:ext cx="3214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 - 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Прямая соединительная линия 20"/>
          <p:cNvSpPr/>
          <p:nvPr/>
        </p:nvSpPr>
        <p:spPr>
          <a:xfrm flipH="1">
            <a:off x="5928840" y="2071800"/>
            <a:ext cx="18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Прямая соединительная линия 21"/>
          <p:cNvSpPr/>
          <p:nvPr/>
        </p:nvSpPr>
        <p:spPr>
          <a:xfrm flipH="1">
            <a:off x="700092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Прямая соединительная линия 22"/>
          <p:cNvSpPr/>
          <p:nvPr/>
        </p:nvSpPr>
        <p:spPr>
          <a:xfrm flipH="1">
            <a:off x="800100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5500800" y="2357280"/>
            <a:ext cx="32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 ОН 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5857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TextBox 25"/>
          <p:cNvSpPr/>
          <p:nvPr/>
        </p:nvSpPr>
        <p:spPr>
          <a:xfrm>
            <a:off x="250920" y="3286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многоатомность спиртов  – взаимодействие со свежеприготовленным голубым осадком гидроксида меди (+2) при обычных условиях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cxnSp>
        <p:nvCxnSpPr>
          <p:cNvPr id="291" name="Прямая со стрелкой 28"/>
          <p:cNvCxnSpPr/>
          <p:nvPr/>
        </p:nvCxnSpPr>
        <p:spPr>
          <a:xfrm flipH="1">
            <a:off x="1762920" y="981000"/>
            <a:ext cx="413640" cy="92880"/>
          </a:xfrm>
          <a:prstGeom prst="straightConnector1">
            <a:avLst/>
          </a:prstGeom>
          <a:ln w="28440">
            <a:solidFill>
              <a:srgbClr val="2e4545"/>
            </a:solidFill>
            <a:miter/>
            <a:tailEnd len="med" type="triangle" w="med"/>
          </a:ln>
        </p:spPr>
      </p:cxnSp>
      <p:cxnSp>
        <p:nvCxnSpPr>
          <p:cNvPr id="292" name="Прямая со стрелкой 30"/>
          <p:cNvCxnSpPr/>
          <p:nvPr/>
        </p:nvCxnSpPr>
        <p:spPr>
          <a:xfrm>
            <a:off x="6443640" y="981000"/>
            <a:ext cx="419760" cy="164160"/>
          </a:xfrm>
          <a:prstGeom prst="straightConnector1">
            <a:avLst/>
          </a:prstGeom>
          <a:ln w="28440">
            <a:solidFill>
              <a:srgbClr val="2e4545"/>
            </a:solidFill>
            <a:miter/>
            <a:tailEnd len="med" type="triangle" w="med"/>
          </a:ln>
        </p:spPr>
      </p:cxnSp>
      <p:pic>
        <p:nvPicPr>
          <p:cNvPr id="293" name="TextBox 31" descr=""/>
          <p:cNvPicPr/>
          <p:nvPr/>
        </p:nvPicPr>
        <p:blipFill>
          <a:blip r:embed="rId3"/>
          <a:stretch/>
        </p:blipFill>
        <p:spPr>
          <a:xfrm>
            <a:off x="176040" y="895320"/>
            <a:ext cx="3084840" cy="64764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32" descr=""/>
          <p:cNvPicPr/>
          <p:nvPr/>
        </p:nvPicPr>
        <p:blipFill>
          <a:blip r:embed="rId4"/>
          <a:stretch/>
        </p:blipFill>
        <p:spPr>
          <a:xfrm>
            <a:off x="5211720" y="987480"/>
            <a:ext cx="272592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61702E-006 L -0.05521 -0.18872 E">
                                      <p:cBhvr>
                                        <p:cTn id="389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0782 0.03519 L -0.00695 0.20996 E">
                                      <p:cBhvr>
                                        <p:cTn id="398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 взаимодействии глицерина с неорганическими и органическими кислотами получаются полные и   неполные сложные эфи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O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OH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3HN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ONO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H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O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ИТРОГЛИЦЕРИН –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ЯЖЕЛАЯ МАСЛЯНИСТАЯ ЖИДКОСТЬ, ВЗРЫВЧАТОЕ ВЕЩЕСТВО(ВЗРЫВАЕТСЯ ОТ ЛЕГКОГО СОТРЯСЕНИЯ И НАГРЕВАНИЯ)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095560" y="163440"/>
            <a:ext cx="5662440" cy="988920"/>
          </a:xfrm>
          <a:prstGeom prst="rect">
            <a:avLst/>
          </a:prstGeom>
          <a:ln w="0">
            <a:noFill/>
          </a:ln>
        </p:spPr>
      </p:pic>
      <p:sp>
        <p:nvSpPr>
          <p:cNvPr id="297" name="Line 4"/>
          <p:cNvSpPr/>
          <p:nvPr/>
        </p:nvSpPr>
        <p:spPr>
          <a:xfrm>
            <a:off x="971640" y="3068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90000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3635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3564000" y="378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2771640" y="357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Химические свой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ислотно-основные св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Этер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гидра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79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1.С ЩЕЛОЧНЫМИ МЕТАЛЛАМ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ЛИКОЛИ ОБРАЗУЮТ ПОЛНЫЙ И НЕПОЛНЫЙ ГЛИКОЛЯТ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H                            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              +2 N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2                                  +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H                            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059280" y="255600"/>
            <a:ext cx="5962320" cy="725400"/>
          </a:xfrm>
          <a:prstGeom prst="rect">
            <a:avLst/>
          </a:prstGeom>
          <a:ln w="0">
            <a:noFill/>
          </a:ln>
        </p:spPr>
      </p:pic>
      <p:sp>
        <p:nvSpPr>
          <p:cNvPr id="304" name="Line 10"/>
          <p:cNvSpPr/>
          <p:nvPr/>
        </p:nvSpPr>
        <p:spPr>
          <a:xfrm>
            <a:off x="3962520" y="29718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305928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762120" y="28195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68360" y="12189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 ХИМИЧЕСКИМ СВОЙСТВАМ ГЛИЦЕРИН ОЧЕНЬ БЛИЗОК 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ИЛЕНГЛИКОЛЮ.ТАК, С ГИДРОКСИДОМ МЕДИ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) ГЛИЦЕРИ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РАЗУЕТ ЯРКО-СИНИЙ ГЛИЦЕРАТ МЕД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HO-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CHO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CH-  O 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O-CH      +2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O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HO-C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КАЧЕСТВЕННАЯ РЕАКЦИЯ НА МНОГОАТОМНЫЕ СПИРТЫ –ЭТИЛЕНГЛИКОЛЬ,ГЛИЦЕРИН И ИХ ГОМОЛО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817640" y="353880"/>
            <a:ext cx="5940360" cy="798480"/>
          </a:xfrm>
          <a:prstGeom prst="rect">
            <a:avLst/>
          </a:prstGeom>
          <a:ln w="0">
            <a:noFill/>
          </a:ln>
        </p:spPr>
      </p:pic>
      <p:sp>
        <p:nvSpPr>
          <p:cNvPr id="309" name="Line 4"/>
          <p:cNvSpPr/>
          <p:nvPr/>
        </p:nvSpPr>
        <p:spPr>
          <a:xfrm>
            <a:off x="684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8269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82692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327672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 flipV="1">
            <a:off x="4572000" y="396216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H="1">
            <a:off x="5867280" y="37339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648320" y="36576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5791320" y="40384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705720" y="373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Line 21"/>
          <p:cNvSpPr/>
          <p:nvPr/>
        </p:nvSpPr>
        <p:spPr>
          <a:xfrm>
            <a:off x="6705720" y="43434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3733920" y="37339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Line 23"/>
          <p:cNvSpPr/>
          <p:nvPr/>
        </p:nvSpPr>
        <p:spPr>
          <a:xfrm>
            <a:off x="3733920" y="43434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6" descr="C:\Documents and Settings\БЕЛОВ\Рабочий стол\гор сп.JPG"/>
          <p:cNvPicPr/>
          <p:nvPr/>
        </p:nvPicPr>
        <p:blipFill>
          <a:blip r:embed="rId1"/>
          <a:stretch/>
        </p:blipFill>
        <p:spPr>
          <a:xfrm>
            <a:off x="6440400" y="2214720"/>
            <a:ext cx="2489400" cy="4437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85840" y="3352680"/>
            <a:ext cx="6143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2060"/>
                </a:solidFill>
                <a:latin typeface="Arial"/>
              </a:rPr>
              <a:t>С2Н5ОН + 3О2 = 2СО2 + 3 Н2О</a:t>
            </a:r>
            <a:endParaRPr b="1" i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357120" y="7142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66"/>
                </a:solidFill>
                <a:latin typeface="Arial"/>
              </a:rPr>
              <a:t>Химические свойства спиртов</a:t>
            </a:r>
            <a:endParaRPr b="1" i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285840" y="2000160"/>
            <a:ext cx="8643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100" spc="-1" strike="noStrike">
                <a:solidFill>
                  <a:srgbClr val="002060"/>
                </a:solidFill>
                <a:latin typeface="Arial"/>
              </a:rPr>
              <a:t>1.Горение спирта</a:t>
            </a:r>
            <a:endParaRPr b="1" i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. АМФОТЕРНЫЕ СВОЙСТВА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2800" y="1795320"/>
            <a:ext cx="7694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сн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C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)   как кисл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R – O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2R – O –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809880" y="27432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H="1">
            <a:off x="3809880" y="25146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1905120" y="2819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200400" y="281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 flipV="1">
            <a:off x="2666880" y="2895480"/>
            <a:ext cx="6429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 flipV="1">
            <a:off x="2057400" y="28191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V="1">
            <a:off x="7696080" y="46483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4648320" y="5181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4876560" y="52578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2438280" y="510552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H="1" flipV="1">
            <a:off x="2057040" y="510516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2133720" y="50292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571920" y="5791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ят</a:t>
            </a:r>
            <a:endParaRPr b="1" i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cxnSp>
        <p:nvCxnSpPr>
          <p:cNvPr id="174" name="Прямая со стрелкой 23"/>
          <p:cNvCxnSpPr/>
          <p:nvPr/>
        </p:nvCxnSpPr>
        <p:spPr>
          <a:xfrm>
            <a:off x="3733560" y="4876920"/>
            <a:ext cx="5007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696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2.1 Как слабая кислота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Реакция замещения водорода -ОН групп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428760" y="1857240"/>
            <a:ext cx="8143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ОН + 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Na → C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ONa +  H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ONa + H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O → C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9c96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c9c960"/>
                </a:solidFill>
                <a:latin typeface="Times New Roman"/>
                <a:ea typeface="Times New Roman"/>
              </a:rPr>
              <a:t>OH + NaOH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28760" y="4143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слабые кислоты алканолы могут реагировать со щелочными металлами. Образующиеся при этом металлические производные спиртов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коголятам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85880"/>
            <a:ext cx="8001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2.2Как слабое основание –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      Реакция замещения  –ОН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     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6" descr="U19_52"/>
          <p:cNvPicPr/>
          <p:nvPr/>
        </p:nvPicPr>
        <p:blipFill>
          <a:blip r:embed="rId1"/>
          <a:stretch/>
        </p:blipFill>
        <p:spPr>
          <a:xfrm>
            <a:off x="685800" y="2743200"/>
            <a:ext cx="63435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6"/>
          <p:cNvSpPr/>
          <p:nvPr/>
        </p:nvSpPr>
        <p:spPr>
          <a:xfrm>
            <a:off x="304920" y="441972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3. Этерифика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процесс взаимодействия карбоновой кислоты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-COOH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спир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R1-OH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, приводящее к образованию сложного эфир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-COOR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extBox 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9156960" cy="682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0" y="2714760"/>
            <a:ext cx="514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    +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– R1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857760" y="235728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 flipV="1">
            <a:off x="142884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Прямая соединительная линия 15"/>
          <p:cNvSpPr/>
          <p:nvPr/>
        </p:nvSpPr>
        <p:spPr>
          <a:xfrm flipV="1">
            <a:off x="1500120" y="257184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Прямая соединительная линия 17"/>
          <p:cNvSpPr/>
          <p:nvPr/>
        </p:nvSpPr>
        <p:spPr>
          <a:xfrm>
            <a:off x="1428120" y="3143160"/>
            <a:ext cx="21420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643040" y="2071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150012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cxnSp>
        <p:nvCxnSpPr>
          <p:cNvPr id="191" name="Прямая со стрелкой 22"/>
          <p:cNvCxnSpPr/>
          <p:nvPr/>
        </p:nvCxnSpPr>
        <p:spPr>
          <a:xfrm>
            <a:off x="3929040" y="285768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23"/>
          <p:cNvCxnSpPr/>
          <p:nvPr/>
        </p:nvCxnSpPr>
        <p:spPr>
          <a:xfrm flipH="1" flipV="1">
            <a:off x="3928680" y="2999520"/>
            <a:ext cx="93888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TextBox 26"/>
          <p:cNvSpPr/>
          <p:nvPr/>
        </p:nvSpPr>
        <p:spPr>
          <a:xfrm>
            <a:off x="1500120" y="32860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2500200" y="27147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TextBox 28"/>
          <p:cNvSpPr/>
          <p:nvPr/>
        </p:nvSpPr>
        <p:spPr>
          <a:xfrm>
            <a:off x="285840" y="41432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 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TextBox 30"/>
          <p:cNvSpPr/>
          <p:nvPr/>
        </p:nvSpPr>
        <p:spPr>
          <a:xfrm>
            <a:off x="242892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621504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й эфир</a:t>
            </a:r>
            <a:endParaRPr b="1" i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250920" y="4857840"/>
            <a:ext cx="8642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↔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СО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                 этиловый          этиловый эфир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                уксусной кислоты</a:t>
            </a:r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Прямоугольник 24"/>
          <p:cNvSpPr/>
          <p:nvPr/>
        </p:nvSpPr>
        <p:spPr>
          <a:xfrm>
            <a:off x="5029200" y="2643120"/>
            <a:ext cx="357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7786800" y="328608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1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Прямая соединительная линия 29"/>
          <p:cNvSpPr/>
          <p:nvPr/>
        </p:nvSpPr>
        <p:spPr>
          <a:xfrm>
            <a:off x="7715160" y="314316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Прямая соединительная линия 33"/>
          <p:cNvSpPr/>
          <p:nvPr/>
        </p:nvSpPr>
        <p:spPr>
          <a:xfrm flipV="1">
            <a:off x="7643880" y="2428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Прямая соединительная линия 34"/>
          <p:cNvSpPr/>
          <p:nvPr/>
        </p:nvSpPr>
        <p:spPr>
          <a:xfrm flipV="1">
            <a:off x="771516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7858080" y="20001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i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3073 -0.0824 E">
                                      <p:cBhvr>
                                        <p:cTn id="10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29375 0.00093 E">
                                      <p:cBhvr>
                                        <p:cTn id="111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57160" y="914400"/>
            <a:ext cx="76932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ГИДРАТАЦИЯ (  отщепление в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молекулярная дегидр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1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–CH2–O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CH2–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2O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 CH2 - O –CH2 –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Внутримоле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H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ru-RU" sz="2400" spc="-1" strike="noStrike" baseline="40000">
                <a:solidFill>
                  <a:srgbClr val="000000"/>
                </a:solidFill>
                <a:latin typeface="Arial"/>
              </a:rPr>
              <a:t>140</a:t>
            </a:r>
            <a:r>
              <a:rPr b="1" lang="ru-RU" sz="2400" spc="-1" strike="noStrike" baseline="94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 baseline="40000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 C – C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 –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 CH = C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алк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baseline="3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657600" y="48006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5334120" y="2286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10-15T07:01:2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