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42E-58F9-4E92-8450-31BBA5E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962-708A-4CC0-BEF7-F07C33C6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28B-E50B-4E32-B0FA-7B7EB605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B79-9936-4D47-88F0-D5BCDA09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9E7-DDC4-4B9E-9C5C-4B2672D5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218-4549-467D-A71A-462FF8C6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033C-AE38-4FF1-A8F0-2B506A2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8E4-A1E5-4ADA-BA74-191582A7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1AC-2F42-4166-9634-4FF6862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8FEA-2D0C-4935-9FEF-39E5897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E3A-6979-4137-B210-B2B9480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32B-ECFF-410C-B565-3ECDB8E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2C0-A6BE-4877-9B5D-62E71CD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99D-F3E5-4BA3-BB49-96135F4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79B-22EC-4F34-9DA2-398E4B7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BD3-9D49-477A-8E83-6D99B3E9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D5E-B54F-4F74-8D6B-5DCA7B82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EB80-EA9C-454E-B231-EA48ADB1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4CBF-A7B8-4D87-80F6-FC10329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2140-9D20-4E8D-969E-3562529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EC67-C3AC-47C4-A916-3A9280B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C4CC-3208-4E0E-BFC3-8E408F6A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2B3-B579-4F76-B261-0067DAE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7D15-ED52-4EE5-B97A-867F462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5BB9-2BE9-45BC-BF6D-AA3B52D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EC7E-AF32-4EF1-ABF9-1FBA024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40FA-EB20-44C1-AAAC-01BBF53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A52C-FB45-48AE-9AFC-EDE30895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6933-A574-48AC-B9CA-66DAFAA6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C689-F9A8-405C-9270-728891C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1DF8-2AE3-4F21-B226-23130F35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22EC-E7AE-48B4-ADF6-A3B0EB6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89EF-EB41-44A4-B010-5FCE3BAE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046-E3CD-495C-B090-79B4A651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01BF-B3F4-4CAF-B2BF-C102540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6B56-C649-4F8E-886E-0C24D19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59F1-CF4E-480E-A082-156DA5D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16BA-56C6-496D-B64D-0463869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7048-378D-4D08-8F76-02C4D1A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01F3E-D084-430B-9EF4-9358874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990F-D9F5-40DB-9F1F-746894D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0867-B311-46A9-92E8-98445D52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CD29-44CA-4602-98F9-0DD66501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0A70-3DD5-4C53-9032-650DF82C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6F5-FB47-4B4C-931E-8520612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0A09-8169-410A-8795-810887B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E835A-D634-460E-AC1B-F262A00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0002-B47B-4A11-9F2F-CFBE20F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7ACB-39DE-4D86-A985-EC82D34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9602-3F19-4FDD-882A-1DB0B7A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639A9-6148-48CA-ABFE-DA11C55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BB06-1E08-458F-9434-564245C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9CA2-2BAD-48B5-B927-76AE5EB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5B60-B319-47F3-8066-35B56D1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2EA9-9F01-4871-AEAA-F399BEF4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669-C169-49B3-BEBE-44255B0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B3941-3689-45BF-9174-2A57004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9FDD-8A45-4515-A7E9-DBD8A13A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5DB9-03A6-45E4-912C-273A934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E8BF-4955-4FB1-906D-D32EA73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7C07-2C23-4792-9112-6507038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DEA3-4EA5-4E6E-AD79-B039151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0E56-BFB5-49B1-A5B2-DD19966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A3F9-0AF2-4B87-8D66-8289EC2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32A6-7D34-4DB8-9BB9-45B91378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A3FC-D615-40D8-A582-8B269A03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B1F-80C8-42F9-B536-365F14D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617F-AE22-4B84-9633-AD92DC0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7F50-02ED-4FE6-B1C4-AE8FA4B2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D63B-66A9-4062-9E60-C875C517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7F2F-9C8F-4500-BF08-21025E53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0478-5291-470D-8A63-2BE3197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FAB6-66A7-4D99-BFA8-E1ADBF4D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F431A-7DE4-434C-BA31-93A969DE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F18F-07DF-4305-83FB-51244837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FF6E-1E95-453F-8B12-A6BC5D7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0F635-47AC-4BFA-9DB1-382D897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A5C-2B5F-4777-8A65-0F27308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F34D-22A2-4652-A594-210A831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DAE11-B649-4D1F-906F-B11190B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29C5-4F78-4808-B307-7721CF5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7A93-DAE2-44D8-859B-830BBD00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68CA-FC9F-4324-8DA6-A73C00FC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1A81-A88C-4037-AFD6-C313C97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06E8-6D48-4A6A-9677-25EE2FD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4F21-CD7B-4F2B-B972-C0E1A00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AEA1-159D-427E-80B3-D113A370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5CB99-C4E7-45A0-83FF-2DED8D9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79F-BB3C-4DF8-BD1B-6A84B92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1280-BF25-4CA1-AA8A-3C66115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E131-43F5-46B9-B13D-D3989B0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3950-660B-45E1-AAF2-184D0A4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7541-CE08-4D7E-BC31-31BF11E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1382-5FB6-4DDE-B749-FFF48D8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9126-8DD8-4AB5-B3B6-F73117E3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3EAE-86C3-4ED0-BB89-234AFFA9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1ED-6F5F-46D4-818E-286590467A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B763-3C37-4F61-B682-D682B7AE15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75E-88BA-47AF-BB6E-4A3CB52AC3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5A6-2621-4367-8EEB-08F89B69A9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BBC7-E8FA-41BA-BB53-F39B195B75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A51-B0EC-4EB7-9AD4-12CAD15EB7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109-BFE0-46B9-9879-6941AE8E31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AD7-6D8A-4572-8721-4167D342B8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himija-online.ru/wp-content/uploads/2017/01/&#1085;&#1086;&#1084;&#1077;&#1085;&#1082;&#1083;-&#1089;&#1087;&#1080;&#1088;&#1090;&#1086;&#1074;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himija-online.ru/wp-content/uploads/2017/01/&#1085;&#1086;&#1084;&#1077;&#1085;&#1082;&#1083;&#1072;&#1090;&#1091;&#1088;&#1072;-&#1089;&#1087;&#1080;&#1088;&#1090;&#1086;&#1074;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himija-online.ru/wp-content/uploads/2017/01/&#1085;&#1086;&#1084;&#1077;&#1085;&#1082;&#1083;&#1072;&#1090;&#1091;&#1088;&#1072;_&#1072;&#1083;&#1082;&#1072;&#1085;&#1086;&#1083;&#1099;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s://himija-online.ru/wp-content/uploads/2017/01/&#1085;&#1086;&#1084;&#1077;&#1085;&#1082;&#1083;&#1072;&#1090;&#1091;&#1088;&#1072;_&#1072;&#1083;&#1082;&#1072;&#1085;&#1086;&#1083;&#1099;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himija-online.ru/wp-content/uploads/2017/01/&#1085;&#1086;&#1084;&#1077;&#1085;&#1082;&#1083;&#1072;&#1090;&#1091;&#1088;&#1072;_&#1072;&#1083;&#1082;&#1072;&#1085;&#1086;&#1083;&#1099;2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901880"/>
            <a:ext cx="6980400" cy="3975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Номенклатура спирт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i"/>
          <p:cNvPicPr/>
          <p:nvPr/>
        </p:nvPicPr>
        <p:blipFill>
          <a:blip r:embed="rId2"/>
          <a:stretch/>
        </p:blipFill>
        <p:spPr>
          <a:xfrm>
            <a:off x="228600" y="6858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etanol"/>
          <p:cNvPicPr/>
          <p:nvPr/>
        </p:nvPicPr>
        <p:blipFill>
          <a:blip r:embed="rId3"/>
          <a:stretch/>
        </p:blipFill>
        <p:spPr>
          <a:xfrm>
            <a:off x="5572080" y="64296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0"/>
            <a:ext cx="9144000" cy="77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684360" y="12682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men"/>
          <p:cNvPicPr/>
          <p:nvPr/>
        </p:nvPicPr>
        <p:blipFill>
          <a:blip r:embed="rId2"/>
          <a:stretch/>
        </p:blipFill>
        <p:spPr>
          <a:xfrm>
            <a:off x="3132000" y="2924280"/>
            <a:ext cx="288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6840" y="1066680"/>
            <a:ext cx="84582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Lucida Sans Unicode"/>
              </a:rPr>
              <a:t>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Georgia"/>
              </a:rPr>
              <a:t>СПИРТЫ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это производны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углеводородов, в молекулах    которых  од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или нескольких атомов    водорода замещены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идроксильными     группами –ОН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000760" y="4000680"/>
            <a:ext cx="3381120" cy="1714320"/>
          </a:xfrm>
          <a:prstGeom prst="rect">
            <a:avLst/>
          </a:prstGeom>
          <a:solidFill>
            <a:srgbClr val="2da2b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709a3"/>
                </a:solidFill>
                <a:uFillTx/>
                <a:latin typeface="Georgia"/>
              </a:rPr>
              <a:t>-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642960" y="3929040"/>
            <a:ext cx="3429000" cy="1785960"/>
          </a:xfrm>
          <a:prstGeom prst="rect">
            <a:avLst/>
          </a:prstGeom>
          <a:solidFill>
            <a:srgbClr val="2da2b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709a3"/>
                </a:solidFill>
                <a:uFillTx/>
                <a:latin typeface="Georgia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ородный 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Название спиртов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 по 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заместительной номенклатуре ИЮПАК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 образуется от названия соответствующих алканов с добавлением суффикса -ол и цифры, указывающей положение гидроксигруппы (если это необходимо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https://himija-online.ru/wp-content/uploads/2017/01/%D0%BD%D0%BE%D0%BC%D0%B5%D0%BD%D0%BA%D0%BB-%D1%81%D0%BF%D0%B8%D1%80%D1%82%D0%BE%D0%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286160"/>
            <a:ext cx="8064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5880" y="121428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умерацию цепи начинают с того края, ближе к которому расположена гидроксильная группа. Цифрами после суффикса «ол» указывают положение гидроксильной группы в главной цеп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Рисунок 3" descr="https://himija-online.ru/wp-content/uploads/2017/01/%D0%BD%D0%BE%D0%BC%D0%B5%D0%BD%D0%BA%D0%BB%D0%B0%D1%82%D1%83%D1%80%D0%B0-%D1%81%D0%BF%D0%B8%D1%80%D1%82%D0%BE%D0%B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880" y="3500280"/>
            <a:ext cx="6985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ругому способу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дикально-функциональная номенклатура ИЮПА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названия спиртов производят от соответствующего углеводородного радикала с добавлением слова «спирт», например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– метиловый спир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– этиловый спирт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Н – н-пропиловый спир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Н(ОН) -СН3 – изопропиловый спир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0" y="0"/>
            <a:ext cx="9144000" cy="77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684360" y="189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68360" y="119700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   мета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л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  эта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л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 пропа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468360" y="2852640"/>
            <a:ext cx="352728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            2    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а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опиловый спи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4572000" y="2637000"/>
            <a:ext cx="4321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           2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-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а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зопропиловый  спи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2484360" y="4869000"/>
            <a:ext cx="395928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            4        3          2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-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-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               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метил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нта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ивиальна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исторически сложившиеся названи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инный спирт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Н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опаргиловый спирт НС≡С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ОН, глицерин (глицерол)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HO–С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–СН(ОН)–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–OH,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ентаэритрит С(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фенетиловый спирт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OH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24000" y="1159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Правила составления названий алканолов с  разветвленной цепью по международной номенклатур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. Найти в молекуле самую длинную прямую углеродную цепь, связанную с гидроксильной групп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Рисунок 3" descr="https://himija-online.ru/wp-content/uploads/2017/01/%D0%BD%D0%BE%D0%BC%D0%B5%D0%BD%D0%BA%D0%BB%D0%B0%D1%82%D1%83%D1%80%D0%B0_%D0%B0%D0%BB%D0%BA%D0%B0%D0%BD%D0%BE%D0%BB%D1%8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484280"/>
            <a:ext cx="3168720" cy="14400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179280" y="2979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онумеровать атомы «С» в этой цепи так, чтобы атом «С», связанный с группой –ОН, имел наименьши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5" descr="https://himija-online.ru/wp-content/uploads/2017/01/%D0%BD%D0%BE%D0%BC%D0%B5%D0%BD%D0%BA%D0%BB%D0%B0%D1%82%D1%83%D1%80%D0%B0_%D0%B0%D0%BB%D0%BA%D0%B0%D0%BD%D0%BE%D0%BB%D1%8B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079880"/>
            <a:ext cx="35272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79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. Назвать алкан, соответствующий самой длинной цепи, указав положение всех заместител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Рисунок 3" descr="https://himija-online.ru/wp-content/uploads/2017/01/%D0%BD%D0%BE%D0%BC%D0%B5%D0%BD%D0%BA%D0%BB%D0%B0%D1%82%D1%83%D1%80%D0%B0_%D0%B0%D0%BB%D0%BA%D0%B0%D0%BD%D0%BE%D0%BB%D1%8B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052640"/>
            <a:ext cx="3313080" cy="15127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4"/>
          <p:cNvSpPr/>
          <p:nvPr/>
        </p:nvSpPr>
        <p:spPr>
          <a:xfrm>
            <a:off x="108000" y="27050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бозначить гидроксильную группу суффиксом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5" descr="https://himija-online.ru/wp-content/uploads/2017/01/%D0%BD%D0%BE%D0%BC%D0%B5%D0%BD%D0%BA%D0%BB%D0%B0%D1%82%D1%83%D1%80%D0%B0_%D0%B0%D0%BB%D0%BA%D0%B0%D0%BD%D0%BE%D0%BB%D1%8B3.jpg"/>
          <p:cNvPicPr/>
          <p:nvPr/>
        </p:nvPicPr>
        <p:blipFill>
          <a:blip r:embed="rId3"/>
          <a:stretch/>
        </p:blipFill>
        <p:spPr>
          <a:xfrm>
            <a:off x="5148360" y="3105000"/>
            <a:ext cx="3671640" cy="1764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6"/>
          <p:cNvSpPr/>
          <p:nvPr/>
        </p:nvSpPr>
        <p:spPr>
          <a:xfrm>
            <a:off x="209520" y="5300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Цифрой указать положение группы –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7" descr="https://himija-online.ru/wp-content/uploads/2017/01/%D0%BD%D0%BE%D0%BC%D0%B5%D0%BD%D0%BA%D0%BB%D0%B0%D1%82%D1%83%D1%80%D0%B0_%D0%B0%D0%BB%D0%BA%D0%B0%D0%BD%D0%BE%D0%BB%D1%8B4.jpg"/>
          <p:cNvPicPr/>
          <p:nvPr/>
        </p:nvPicPr>
        <p:blipFill>
          <a:blip r:embed="rId4"/>
          <a:stretch/>
        </p:blipFill>
        <p:spPr>
          <a:xfrm>
            <a:off x="5148360" y="5157720"/>
            <a:ext cx="34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10:57Z</dcterms:created>
  <dc:creator>www.PHILka.RU</dc:creator>
  <dc:description/>
  <dc:language>en-US</dc:language>
  <cp:lastModifiedBy>Admin</cp:lastModifiedBy>
  <dcterms:modified xsi:type="dcterms:W3CDTF">2023-10-19T17:11:12Z</dcterms:modified>
  <cp:revision>26</cp:revision>
  <dc:subject/>
  <dc:title>Слайд 1</dc:title>
</cp:coreProperties>
</file>