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07F-D30A-4D3B-8915-1F3A93F5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13D-E8A4-433D-B1FC-519E4315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6756B-3A77-420C-A277-9CAB8D73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C47A2-F618-419D-837A-5F18546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C49CD-5760-4901-91CB-E4136668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F1F14-2932-4A12-997B-1EAE5ED1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6A35A-E385-4F4D-8D5F-D7FB1E7B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917E9-892E-4389-A094-D33C9CB7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125BF-8E1E-470D-B2D4-5A47BD8E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B210A-4E06-4708-8E5E-ED6C596E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2B483-1605-4531-BA5C-4CFD713A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9D5-1620-433B-9FA4-4B442A66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A7A-88BF-42BE-951D-07087CA0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4E39-FD3F-41FB-80E3-9153037E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0301-2DFE-4330-AE0B-9D1D6834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47BB-74EB-4B5D-B9D9-9F97037C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59C9-3376-448D-89F0-ED33E623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7051-4D85-4C77-B3F0-B2FEB675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5CD1-57FD-45B0-868A-70187D47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0C0D-C4E1-4922-9A53-C658C562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68C-9CEE-42D1-ADAC-EA3CC80A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3DD5-29E7-464F-A6C1-B46DFBE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4B41-DE59-4B9A-BC5C-ED6AE7C3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31CE-3394-459B-8064-368FEA4A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3A2D-ED50-4807-807D-2234B087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B66A-576F-4E57-9AB6-F2DCD8DD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29EB-CE10-454D-AE2E-AA024A13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35BE-7E80-45B2-BA63-53ED6C8F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F611-E94D-437C-9453-38567CF4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7039-476B-4FCD-96D8-5E220E5F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664D-FB98-46C3-97D8-BE6EA603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BAE-8790-458F-A667-6FE497B5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6758-A1F9-4FFC-BB93-71A25499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64A1-9E9D-43E0-A46A-ADDB9661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D933-9B8F-432C-9D6D-E7E04562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28D0-C1C8-4A00-AD0F-0DC3C268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CD7D-4387-4EA9-BC9B-CAFF9892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162F-DCED-40B0-BEBF-E340839F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6164-9CC8-45CB-9070-4B28E17E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0E4E-8F47-4305-B653-30ABEC59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EB5A-967E-4DFF-A315-2972E793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157FE-CBFD-45D2-AFC7-B77D8697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A1E-C540-41BE-AE98-183207BE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122E9-43CB-4C30-943B-8930A9BF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4B4FF-7011-41F4-8D97-74F0C633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6F6C-C4BC-4974-B3DC-FCC7D08E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375C9-5233-4B78-9EC1-05D75715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36FC-7BD7-4047-AF09-6F9A4733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0642-EB16-410B-9B9B-46B81BA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7984-615A-4875-AFD6-DEE5BFCE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8202-E20E-4755-BD4F-1FF3C6ED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46FA-DD1B-4278-A03A-D1DCBE65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59625-9B5C-4FCB-91E9-E99CC6A7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368-7A70-4445-AC76-18025224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2790D-DCBC-4246-B47B-070F884F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9BB2-947A-44FC-8DE1-F1C7DE8C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0DF9B-79F8-476D-AE08-7DE6CD44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AF649-1281-45D0-901A-C5A5A49C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39D6C-83D6-4899-97ED-E9A94A17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14B96-8DDF-456D-B2C6-A1AD452E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660FC-89A9-462B-8C10-72617B9A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E01E1-0A9D-4193-9262-9842039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DE72C-7943-4F59-86A2-961D3670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A3D13-9C8C-4CC7-9472-039EAA9E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B7D-71C3-4F49-A738-083E323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1F483-8EB7-491D-BDE5-44E0D9E9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26664-82B4-4A04-9156-9D85AB50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35117-B1FF-4EDC-9745-97D850AE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E3F54-B589-41DF-9C8F-0B9DFF90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44F25-1CEA-4705-A8B0-6AD9A555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3EE19-D984-4914-8DA9-C21C8E4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1D56-0CCD-4BEA-B8C2-019C70D1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003D8-5B54-4468-86E9-B274C994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155A9-44B3-4AAA-AE20-2181E53B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45708-A7B1-4E4E-BE0C-CA5DE1B8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E29-B1B1-465E-8F31-31D9AFA5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68CDB-169A-4B57-9A30-111B106E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7A071-0A83-469E-8AB3-538655DE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4D118-E46B-46AD-9148-7A87C6D1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7D718-28E9-496E-ADE1-53F60DCE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E8FC7-CBD4-4ADF-B389-ED92502F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9D5DE-A563-42FA-88EA-4E223AB2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8897A-FBD6-413B-8018-B54DD961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32231-C078-42D2-9C00-FD071772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5E67-E871-4CB6-9A53-02BB4973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5B011-CBA4-496C-ACAD-B908A85A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C01-7424-493A-8C3D-117DD5B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2CEBB-0287-4A41-8EF2-5503ABE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F3EB3-3CC2-42C6-B58D-8232C54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8E057-F5C0-4F53-A2EA-CA72D9F2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068C5-C0C3-4C8E-990E-34A1D604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EE958-75DE-4C5B-9848-E9BC25CC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ED6D0-360D-4909-8518-B05AE347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BE31B-B118-4775-BAA9-8BD8593D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B1D4E-B27C-4ADF-A816-817D0BD9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4CBC9-03D1-4577-BB0E-2896CC70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5C7CB-27F6-41AB-BA52-6D2353BC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90A-1626-42B6-B1D3-6467681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B595B-58BD-4570-AFD3-BF07B32D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583AF-97A8-401E-8E7E-FA79E7D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7301A-D2F6-4FC7-A853-8114EDDC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A5A15-F8AC-4C94-BABE-754533CA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F6D08-D016-4331-8649-EFBA3BEB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1D964-D872-46E1-BA09-A4541653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92DBB-4F8A-4729-BE24-0F8C5FB1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3753D-53BD-4929-A60C-45E5EBAE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834F0-04E1-472C-B62B-DE0310F4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B5D8D-A4A4-47A1-A465-2D83B07D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D807-487F-4CEB-8552-D2ABBA9A39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3904-35C6-41E8-8A0B-5BDB2E98CE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5FC0-F5E9-470A-A844-D02A95CF15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E317-538A-4556-903D-73F0448948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9AE4-122C-4CDD-9461-A7279EE7E2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367F-8119-4FB5-9A1B-490F017ABF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1676-E3BD-4E4C-880A-CA86868D66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908F-07CF-4696-A323-9D464EEC0D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C38C-5C8A-4782-AC2A-B35B33C6F0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metronsk.ru/img/issues/d40bd159ebded54efdeadc0d637277dc.jp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25360" y="755640"/>
            <a:ext cx="8772480" cy="1457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H:\Учитель-новатор\Фото на визитку\Üstün-Zekalı-Çocuklara-Kurs.jpg"/>
          <p:cNvPicPr/>
          <p:nvPr/>
        </p:nvPicPr>
        <p:blipFill>
          <a:blip r:embed="rId2"/>
          <a:stretch/>
        </p:blipFill>
        <p:spPr>
          <a:xfrm>
            <a:off x="2050920" y="2565360"/>
            <a:ext cx="5400720" cy="3240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304920" y="2060280"/>
            <a:ext cx="8686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75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701640"/>
            <a:ext cx="8699400" cy="2449440"/>
          </a:xfrm>
          <a:prstGeom prst="rect">
            <a:avLst/>
          </a:prstGeom>
          <a:ln w="0">
            <a:noFill/>
          </a:ln>
        </p:spPr>
      </p:pic>
      <p:pic>
        <p:nvPicPr>
          <p:cNvPr id="403" name="спирты - растворимость.avi" descr=""/>
          <p:cNvPicPr/>
          <p:nvPr/>
        </p:nvPicPr>
        <p:blipFill>
          <a:blip r:embed="rId2"/>
          <a:stretch/>
        </p:blipFill>
        <p:spPr>
          <a:xfrm>
            <a:off x="5357880" y="4143240"/>
            <a:ext cx="3143160" cy="20718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"/>
          <p:cNvPicPr/>
          <p:nvPr/>
        </p:nvPicPr>
        <p:blipFill>
          <a:blip r:embed="rId3">
            <a:lum contrast="30000"/>
          </a:blip>
          <a:stretch/>
        </p:blipFill>
        <p:spPr>
          <a:xfrm rot="20887200">
            <a:off x="608040" y="3875040"/>
            <a:ext cx="3521160" cy="21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73080" y="450720"/>
            <a:ext cx="8924760" cy="210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4" descr="Картинка 14 из 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57440" y="2865600"/>
            <a:ext cx="490068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Содержимое 3" descr=""/>
          <p:cNvPicPr/>
          <p:nvPr/>
        </p:nvPicPr>
        <p:blipFill>
          <a:blip r:embed="rId1"/>
          <a:stretch/>
        </p:blipFill>
        <p:spPr>
          <a:xfrm>
            <a:off x="208080" y="384120"/>
            <a:ext cx="887544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ИССЛЕДОВАТЕЛЬСКАЯ ГРУППА №1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5080" y="2133720"/>
            <a:ext cx="4292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ИССЛЕДОВАТЕЛЬСКАЯ ГРУППА №2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23640" y="1412640"/>
            <a:ext cx="3857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ИЗУЧАЕТ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оение и классификацию спирт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обирает модели метанола и этанол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363640" y="1268280"/>
            <a:ext cx="35737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ИЗУЧАЕТ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оменклатуру спирт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Содержимое 2"/>
          <p:cNvSpPr/>
          <p:nvPr/>
        </p:nvSpPr>
        <p:spPr>
          <a:xfrm>
            <a:off x="5572080" y="642960"/>
            <a:ext cx="314316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СН</a:t>
            </a:r>
            <a:r>
              <a:rPr b="1" lang="ru-RU" sz="17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-СН</a:t>
            </a:r>
            <a:r>
              <a:rPr b="1" lang="ru-RU" sz="17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-СН</a:t>
            </a:r>
            <a:r>
              <a:rPr b="1" lang="ru-RU" sz="17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-СН</a:t>
            </a:r>
            <a:r>
              <a:rPr b="1" lang="ru-RU" sz="17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-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3"/>
          <p:cNvSpPr/>
          <p:nvPr/>
        </p:nvSpPr>
        <p:spPr>
          <a:xfrm>
            <a:off x="7072200" y="4786200"/>
            <a:ext cx="1857600" cy="128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СН</a:t>
            </a:r>
            <a:r>
              <a:rPr b="1" lang="ru-RU" sz="1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│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СН</a:t>
            </a:r>
            <a:r>
              <a:rPr b="1" lang="ru-RU" sz="1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-   С – СН</a:t>
            </a:r>
            <a:r>
              <a:rPr b="1" lang="ru-RU" sz="1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http://dic.academic.ru/pictures/wiki/files/69/Ethanol-3D-balls.png"/>
          <p:cNvPicPr/>
          <p:nvPr/>
        </p:nvPicPr>
        <p:blipFill>
          <a:blip r:embed="rId1"/>
          <a:stretch/>
        </p:blipFill>
        <p:spPr>
          <a:xfrm>
            <a:off x="1571760" y="4214880"/>
            <a:ext cx="2857320" cy="120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ИССЛЕДОВАТЕЛЬСКАЯ ГРУППА №3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43280" y="2060640"/>
            <a:ext cx="4292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ИССЛЕДОВАТЕЛЬСКАЯ ГРУППА №4</a:t>
            </a:r>
            <a:br>
              <a:rPr sz="2000"/>
            </a:b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УЧАЕТ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изические свойства спирт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47960" y="2997000"/>
            <a:ext cx="42894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УЧАЕТ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Химические свойства спирт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3" descr="c48030102p"/>
          <p:cNvPicPr/>
          <p:nvPr/>
        </p:nvPicPr>
        <p:blipFill>
          <a:blip r:embed="rId1"/>
          <a:stretch/>
        </p:blipFill>
        <p:spPr>
          <a:xfrm>
            <a:off x="692280" y="2924280"/>
            <a:ext cx="2593800" cy="1576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" descr="spirt"/>
          <p:cNvPicPr/>
          <p:nvPr/>
        </p:nvPicPr>
        <p:blipFill>
          <a:blip r:embed="rId2"/>
          <a:stretch/>
        </p:blipFill>
        <p:spPr>
          <a:xfrm>
            <a:off x="7308720" y="428760"/>
            <a:ext cx="13906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80800" y="907920"/>
            <a:ext cx="42908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Medium"/>
              </a:rPr>
              <a:t>ИССЛЕДОВАТЕЛЬСКАЯ ГРУППА №5</a:t>
            </a:r>
            <a:br>
              <a:rPr sz="1800"/>
            </a:b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3280" y="1643040"/>
            <a:ext cx="4292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Medium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Franklin Gothic Medium"/>
              </a:rPr>
              <a:t>ИССЛЕДОВАТЕЛЬСКАЯ ГРУППА №6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80800" y="1916280"/>
            <a:ext cx="429084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УЧАЕТ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зомерию спирт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обирает модели изомеров пропанола (бутанола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072040" y="2571840"/>
            <a:ext cx="38656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УЧАЕТ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ахождение спиртов в природ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ласти применения одноатомных и многоатомных спирт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5" descr="i"/>
          <p:cNvPicPr/>
          <p:nvPr/>
        </p:nvPicPr>
        <p:blipFill>
          <a:blip r:embed="rId1"/>
          <a:stretch/>
        </p:blipFill>
        <p:spPr>
          <a:xfrm>
            <a:off x="2357280" y="4143240"/>
            <a:ext cx="2071800" cy="1143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D:\ИЗОБРАЖЕНИЯ_2\для презентаций\Narabo2.gif"/>
          <p:cNvPicPr/>
          <p:nvPr/>
        </p:nvPicPr>
        <p:blipFill>
          <a:blip r:embed="rId2"/>
          <a:stretch/>
        </p:blipFill>
        <p:spPr>
          <a:xfrm>
            <a:off x="7093080" y="411120"/>
            <a:ext cx="9810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49120" y="5248440"/>
            <a:ext cx="8675640" cy="13651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СОЗДАНИЕ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МАКЕТ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УЧНОГО БЮЛЛЮТЕН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 на пример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кислот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Объект 4" descr="G:\Химические свойства карбоновых кислот.png"/>
          <p:cNvPicPr/>
          <p:nvPr/>
        </p:nvPicPr>
        <p:blipFill>
          <a:blip r:embed="rId2"/>
          <a:stretch/>
        </p:blipFill>
        <p:spPr>
          <a:xfrm>
            <a:off x="5219640" y="62064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04:17:53Z</dcterms:created>
  <dc:creator>Raybook</dc:creator>
  <dc:description/>
  <dc:language>en-US</dc:language>
  <cp:lastModifiedBy>Admin</cp:lastModifiedBy>
  <dcterms:modified xsi:type="dcterms:W3CDTF">2023-10-23T18:06:31Z</dcterms:modified>
  <cp:revision>28</cp:revision>
  <dc:subject/>
  <dc:title>Цель: изучить строение и свойства карбоновых кислот</dc:title>
</cp:coreProperties>
</file>