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F24-C777-42B0-9656-38222532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C94-8191-4DB8-AFBF-DAD3B894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A41-9D45-40DC-916A-535F4330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E21-0928-49F3-9286-E268848D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F257-1B5E-49B9-BAB2-8BD66C4F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0D22-72D9-468D-84E2-3EF92E5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26AE-22C2-470D-809E-C03B8CC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C84-989A-4387-B6AA-78CB2B79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F03-A3FC-4D68-899E-59D871DF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BB2C-222C-4352-B09F-A29DB74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304-5703-4B2A-92A5-26317AD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BEE-76FC-48D7-A0E2-0814C0A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654-79B9-409B-8462-D506768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D8E-73A3-4C4F-B5A8-37D8ACD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827-9AA6-4912-A0DB-B4470ED5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C27-6FC9-4994-B2BD-BFD28E2E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11A8-FD42-4004-A8B7-B997C2AB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269-B7BC-4719-A246-018F58E4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419-6424-4D62-ACEE-42C5A5F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773-6FB0-4C7E-9303-ACCD68A1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79A-8D23-497A-8C91-C53A0B14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40B-4647-432E-B797-9171A2A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4AC-D03B-4D5B-AF5C-854CA0C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824-3AEA-4059-8D84-0CCA2E1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C68-B0F4-4CF8-BC69-B7B13E7586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E1E-14D3-4183-8E39-AAEB6F52E6B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ПИРТ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ЗОМЕР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743200"/>
            <a:ext cx="7692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ИРТЫ - это органические вещества, молекулы которых содержат одну или несколько функциональных гидроксо-групп ОН, соединенных с углеводородным радика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3141720" y="3422520"/>
            <a:ext cx="33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3519360" y="37814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–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3405240" y="4494240"/>
            <a:ext cx="2401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809160" y="518148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утанол -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304920" y="4572000"/>
            <a:ext cx="283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847440" y="4800600"/>
            <a:ext cx="78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225000" y="52578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илпропанол -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6360120" y="4505400"/>
            <a:ext cx="264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6549840" y="52196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этиловый эфи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Организационная диаграмма 29" descr=""/>
          <p:cNvPicPr/>
          <p:nvPr/>
        </p:nvPicPr>
        <p:blipFill>
          <a:blip r:embed="rId1"/>
          <a:stretch/>
        </p:blipFill>
        <p:spPr>
          <a:xfrm>
            <a:off x="285840" y="225360"/>
            <a:ext cx="8645400" cy="3286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9"/>
          <p:cNvSpPr/>
          <p:nvPr/>
        </p:nvSpPr>
        <p:spPr>
          <a:xfrm>
            <a:off x="2499480" y="609588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омерия спирто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34320" y="834120"/>
            <a:ext cx="4198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изоме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14400" y="3124080"/>
            <a:ext cx="38862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990033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02920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пан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л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914400" y="45720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3 – СН – СН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209680" y="5029200"/>
            <a:ext cx="0" cy="2286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положению функциональной групп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572000" y="46483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267080" y="4572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пан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л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0574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9718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глеродного скел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 baseline="-25000">
                <a:solidFill>
                  <a:srgbClr val="990033"/>
                </a:solidFill>
                <a:latin typeface="Arial"/>
              </a:rPr>
              <a:t>4              3             2            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 baseline="-25000">
                <a:solidFill>
                  <a:srgbClr val="990033"/>
                </a:solidFill>
                <a:latin typeface="Arial"/>
              </a:rPr>
              <a:t>3             2          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438280" y="4724280"/>
            <a:ext cx="0" cy="2286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09680" y="49528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48520" y="3200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танол 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105520" y="4267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ети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панол -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классовая изоме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ОН   пропан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л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О 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 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ети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ил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ов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эфи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 – O – R</a:t>
            </a:r>
            <a:r>
              <a:rPr b="0" lang="ru-RU" sz="2800" spc="-1" strike="noStrike" baseline="50000">
                <a:solidFill>
                  <a:srgbClr val="990033"/>
                </a:solidFill>
                <a:latin typeface="Arial"/>
              </a:rPr>
              <a:t>/</a:t>
            </a:r>
            <a:r>
              <a:rPr b="0" lang="en-US" sz="2800" spc="-1" strike="noStrike" baseline="50000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 baseline="50000">
                <a:solidFill>
                  <a:srgbClr val="99003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стой эфи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10-16T17:47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