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6.png" ContentType="image/png"/>
  <Override PartName="/ppt/media/image1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.gif" ContentType="image/gif"/>
  <Override PartName="/ppt/media/image8.jpeg" ContentType="image/jpeg"/>
  <Override PartName="/ppt/media/image5.png" ContentType="image/png"/>
  <Override PartName="/ppt/media/image10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51450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120" y="746280"/>
            <a:ext cx="662940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B8BD-B002-4BDC-A75E-B0370071AD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4637-E10D-4B65-80F6-B002D59DCB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BBF5-2F32-4AA3-B627-E9DCB6FADB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6454-645A-4C6C-9A4E-741FC72EE1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FB73-1F54-42D9-AA61-D965B33AC1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738F-F430-4DD0-9936-7A69A2E469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AC4D-E424-41B5-B7C9-3AA17ACAA8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4F70-2502-4254-AE6F-23E8B264A7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860F-5830-4428-B81F-5121F6ED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10932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B26-D214-4F62-B0CB-6AF1F48D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7DAF-A11E-40AE-9F31-AA00AEC5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FC4-FADF-452E-B2AA-30CD3DD1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D508-4E80-4D65-9927-5EECBB0F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DE14-5615-47E1-8E66-3BF41F15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EA52-B64D-4291-AA91-039D8F14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E96A-0E23-4168-836D-D999C071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9A95-F06D-4329-9D30-C3CF13BB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06280"/>
            <a:ext cx="746748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D630-1FA5-4E87-9067-590BAC7F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9A4B-3422-4B6C-833A-C986A8FD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3F4-3398-4270-8D0C-BC9D8FAE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AC2D-7FCC-407B-A852-C5D88F09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01A7-BA5A-46DD-BFE5-A5182A24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310932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E390-3F0B-4A47-91CF-A74D4B7A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DDCB-D969-4371-ABD2-8BDCE047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1E9B-AC5C-49D3-9CA0-8B627991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4CE3B-0A97-4D1C-B106-ACCABA18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F4A75-A684-4DCE-9CF9-1B447C96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726D12-F83E-451B-8E06-15250F49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CFEDA-C7FF-42C5-A681-9F711371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DF49F-C713-4420-9701-F2E289C1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CCEE-2D61-4740-837A-2E200786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06280"/>
            <a:ext cx="746748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9EC07-5486-4A25-A4E5-FAF3B468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81B6C-E434-4691-88BC-9DD1F2FA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B73DD-3896-4F3D-9E14-7E8B4EC2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BF1FC-7D1F-47E7-98F4-725D6190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310932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0E515-C801-45A0-8E6A-79383BAD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B998B-6866-42B3-84D4-F425CE8D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4C146-39F9-4B22-8917-8DC8AAB5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C1A27-C972-4689-B752-A197B2BE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4F345-8118-4B09-9602-CAE1DC53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C54E5-9CCB-4989-9AA0-35ACAF04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A5E2-1A71-463F-A2E2-B498EE5E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03207-DE22-4F71-A506-FB080D1C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F6CD0-13C3-4517-BB04-EE15ED6D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06280"/>
            <a:ext cx="746748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E39F4-1042-4629-A57F-B5A29F29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CB199-FFC8-475D-B145-48AC449F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F6FA7-9404-44FD-8D22-82E58B0F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F2A53-A794-436D-8958-AA580073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310932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31AA2-BAFB-4D62-A1D3-277FDCA8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5AB8F-B872-4374-B787-BF41D6AF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CA44B-9A54-4AD3-AEFC-38CEAE2D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D4AF3E-A384-4D24-A1F5-032C81AB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063-8564-4D1F-87AB-D116F58B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F08666-9FA6-4BD2-8961-CC65AA58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01DB84-BFE1-473F-A527-376AEBBC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409A58-554A-4B36-829F-D77182C7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63DBAF-A8BA-42A5-8D32-ADACBCC0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06280"/>
            <a:ext cx="746748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F1A61-C56A-48EA-AFCB-909DECAE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DC12A3-1B9B-44F2-87CA-75CEE234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74F60-488A-4928-A303-E335A48B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946C41-F33D-404C-A6BA-0FE8D9ED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310932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44AFBE-E439-4FA7-9FFA-1CAF9963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703664-6955-4861-B596-88DE226F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06280"/>
            <a:ext cx="746748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A82-6A43-4507-91F5-AFD2FD3E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596B9-1815-4D0B-B10B-539A0723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FD81A4-48EB-4F62-A630-2367452A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A7F702-4E26-4434-8F8F-E70F998E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BA4629-B3A8-4EC1-AFC6-399CB778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B54168-8301-4F69-8BC0-C2B12658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69C60E-C7E7-41D2-A47F-3219F665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06280"/>
            <a:ext cx="746748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DF41B-DFC9-49B2-A29A-FA7767D6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47EC61-134E-4FC4-AE50-18046857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68946B-96A4-4C2C-99E0-CFB71739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40A541-9FAC-4C51-B7F5-0EEC696E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3FB-DD21-4E18-A460-6B1127BC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310932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A84B73-A996-469D-B03E-837EBBD0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2F20C-A0D9-4A03-AB0B-13EC07F2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13E70E-BA0C-4F0D-8CC6-E3A09317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D5B9B9-FD1D-4FCE-98F0-F1263289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92296E-1F5A-44A1-890A-FA32EA23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01EB6C-10FF-4FA4-887C-42A6A1DB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8DCEA7-6429-41B0-8115-CE674D2B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1AED17-1BBC-413E-93DB-C6C0AB89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06280"/>
            <a:ext cx="746748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D63503-9054-4583-BE57-37B130A8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5749CE-ED8B-43EF-889B-A34B7274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A9A7-4B36-4929-AE4B-362239B1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E5472B-F8C2-465C-B655-9341047E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2F2274-F7AC-4EC3-8475-E7C42BA7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310932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22D53B-3D70-4AAC-A6B6-4B4E550F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FEE0F3-1AB9-49F5-9A53-561EC454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B70D69-1A72-4BBF-8BA4-0D787E45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D079C-333F-41F5-AD57-38D0BB52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66C4B-F6D3-4DF5-B4A2-6FFF9DF5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98E2B-34F1-49AA-BC83-77792A0C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A584F-2D77-4EDC-AE12-6B955458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750A1-66AE-4C8B-B164-E204103C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549-E46D-440D-AAF2-EB834B29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06280"/>
            <a:ext cx="746748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09FDC-411D-4EDC-BA31-F4EE0EA4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025EC-FA19-482B-8C77-4D63EA91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E49F9-57F2-4095-9ADC-2F228E74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A318C-A3FD-4CFA-95B0-9AD37556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3109320"/>
            <a:ext cx="746748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261CA-C868-45BF-895A-59B95D3D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19988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3109320"/>
            <a:ext cx="364392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A9366-C4CC-44E9-8E4A-12EE3A9A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19988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3109320"/>
            <a:ext cx="2404440" cy="17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130BF-0F6E-4759-97EE-AEFEDB49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514368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840800" y="763200"/>
            <a:ext cx="15080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B38D-C7D9-432C-ACD6-E9979C1E6FAF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7389720" y="2757600"/>
            <a:ext cx="2400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514368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514368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514368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514368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4286160"/>
            <a:ext cx="549360" cy="4111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4300200"/>
            <a:ext cx="60984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1812-79EE-4047-856C-36CE1CE091A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514368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514368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514368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514368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514368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514368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514368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514368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514368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514368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514368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2571840"/>
            <a:ext cx="1295640" cy="9716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3649680"/>
            <a:ext cx="641520" cy="4809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4125960"/>
            <a:ext cx="138240" cy="103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4341960"/>
            <a:ext cx="274680" cy="2044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3371760"/>
            <a:ext cx="36504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8049960" y="833040"/>
            <a:ext cx="1714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7908-9A70-4A1D-B78B-203C190E1CDF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534080" y="3087360"/>
            <a:ext cx="2743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3697200"/>
            <a:ext cx="60948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5AF6-1C45-4F27-B01E-EE389092C9F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514368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514368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514368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514368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514368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4286160"/>
            <a:ext cx="549360" cy="4111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840800" y="763200"/>
            <a:ext cx="15080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FDC1-F0A6-4A58-B809-ADE1CA77A436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4300200"/>
            <a:ext cx="60984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D5DC-4B99-451C-80AF-466C7F10BD7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7389720" y="2757600"/>
            <a:ext cx="2400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514368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514368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514368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514368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514368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514368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514368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514368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514368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514368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2571840"/>
            <a:ext cx="1295640" cy="9716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3649680"/>
            <a:ext cx="642960" cy="4809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4125960"/>
            <a:ext cx="138240" cy="103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4343400"/>
            <a:ext cx="274680" cy="206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3359160"/>
            <a:ext cx="36504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514368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8048520" y="829800"/>
            <a:ext cx="1714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DA76-05F7-4F19-ABA7-B0E7454B9B65}" type="datetime"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534080" y="3085920"/>
            <a:ext cx="2743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3697200"/>
            <a:ext cx="60948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0BB0-4A2F-4657-8158-F448F038009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514368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514368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514368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514368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514368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4286160"/>
            <a:ext cx="549360" cy="4111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840800" y="763200"/>
            <a:ext cx="15080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1ECB-1A08-484A-A87D-E9FE36F9FDCA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4300200"/>
            <a:ext cx="60984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8DCB-8C78-4230-95C7-923D0400C14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7389720" y="2757600"/>
            <a:ext cx="2400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514368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514368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514368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514368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514368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514368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4286160"/>
            <a:ext cx="549360" cy="4111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840800" y="763200"/>
            <a:ext cx="15080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C623-88DC-454D-B79A-EAA8A2EFBDB6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4300200"/>
            <a:ext cx="60984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DC42-446F-4FDD-B86B-4241855363B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7389720" y="2757600"/>
            <a:ext cx="2400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514368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4286160"/>
            <a:ext cx="549360" cy="4111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514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514368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514368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514368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514368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840800" y="763200"/>
            <a:ext cx="15080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FEB3-081F-4A21-8E4F-6F0E26E7330A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4300200"/>
            <a:ext cx="60984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F5A4-6720-4CE9-8868-ACC76512119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7389720" y="2757600"/>
            <a:ext cx="2400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514368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514368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514368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514368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514368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4286160"/>
            <a:ext cx="549360" cy="4111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199880"/>
            <a:ext cx="746748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840800" y="763200"/>
            <a:ext cx="15080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23FF-4F62-4DA4-9A6A-6AD975B35587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7389720" y="2757600"/>
            <a:ext cx="2400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4300200"/>
            <a:ext cx="60984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3A52-9F55-4E13-A68D-A446D93A8D2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himija-online.ru/wp-content/uploads/2017/02/&#1087;&#1088;&#1080;&#1084;&#1077;&#1085;&#1077;&#1085;&#1080;&#1077;-&#1084;&#1077;&#1090;&#1072;&#1085;&#1086;&#1083;&#1072;2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9a3d01"/>
                </a:solidFill>
                <a:latin typeface="Century Schoolbook"/>
              </a:rPr>
              <a:t>СПИРТЫ.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TextBox 2"/>
          <p:cNvSpPr/>
          <p:nvPr/>
        </p:nvSpPr>
        <p:spPr>
          <a:xfrm>
            <a:off x="611280" y="163512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14752"/>
                </a:solidFill>
                <a:latin typeface="Century Schoolbook"/>
              </a:rPr>
              <a:t>Спирты  в  приро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14752"/>
                </a:solidFill>
                <a:latin typeface="Century Schoolbook"/>
              </a:rPr>
              <a:t>Применение спир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D:\ИЗОБРАЖЕНИЯ_2\КАРТИНКИ_смесь\logo.png"/>
          <p:cNvPicPr/>
          <p:nvPr/>
        </p:nvPicPr>
        <p:blipFill>
          <a:blip r:embed="rId1"/>
          <a:stretch/>
        </p:blipFill>
        <p:spPr>
          <a:xfrm>
            <a:off x="468360" y="3435480"/>
            <a:ext cx="10587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76438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457200" y="1544760"/>
            <a:ext cx="3657600" cy="27399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4270320" y="1544760"/>
            <a:ext cx="36576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857160" y="1071720"/>
            <a:ext cx="728676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560" y="267840"/>
            <a:ext cx="8137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Rectangle 1"/>
          <p:cNvSpPr/>
          <p:nvPr/>
        </p:nvSpPr>
        <p:spPr>
          <a:xfrm>
            <a:off x="755640" y="273276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"/>
          <p:cNvSpPr/>
          <p:nvPr/>
        </p:nvSpPr>
        <p:spPr>
          <a:xfrm>
            <a:off x="611280" y="166320"/>
            <a:ext cx="792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Уроки химии 10-11 класс» - Р.Г. Иванова, А.А. Каверина, А.С. Корощенко. Издательство Просве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Химия. 10 класс» - Л.М. Брейгер.  Издательство Уч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атериалы Википед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117000"/>
            <a:ext cx="8153640" cy="87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РЕДЕЛЬНЫЕ ОДНОАТОМНЫЕ СПИРТ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95280" y="1563840"/>
            <a:ext cx="8353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entury Schoolbook"/>
              </a:rPr>
              <a:t>Общая формула</a:t>
            </a:r>
            <a:r>
              <a:rPr b="1" lang="ru-RU" sz="3400" spc="-1" strike="noStrike">
                <a:solidFill>
                  <a:srgbClr val="002060"/>
                </a:solidFill>
                <a:latin typeface="Century Schoolbook"/>
              </a:rPr>
              <a:t>:</a:t>
            </a:r>
            <a:r>
              <a:rPr b="0" lang="ru-RU" sz="3400" spc="-1" strike="noStrike">
                <a:solidFill>
                  <a:srgbClr val="002060"/>
                </a:solidFill>
                <a:latin typeface="Century School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3400" spc="-1" strike="noStrike">
                <a:solidFill>
                  <a:srgbClr val="9a3d01"/>
                </a:solidFill>
                <a:latin typeface="Century Schoolbook"/>
              </a:rPr>
              <a:t>C</a:t>
            </a:r>
            <a:r>
              <a:rPr b="1" lang="en-US" sz="3400" spc="-1" strike="noStrike" baseline="-25000">
                <a:solidFill>
                  <a:srgbClr val="9a3d01"/>
                </a:solidFill>
                <a:latin typeface="Century Schoolbook"/>
              </a:rPr>
              <a:t>n</a:t>
            </a:r>
            <a:r>
              <a:rPr b="1" lang="en-US" sz="3400" spc="-1" strike="noStrike">
                <a:solidFill>
                  <a:srgbClr val="9a3d01"/>
                </a:solidFill>
                <a:latin typeface="Century Schoolbook"/>
              </a:rPr>
              <a:t>H</a:t>
            </a:r>
            <a:r>
              <a:rPr b="1" lang="ru-RU" sz="3400" spc="-1" strike="noStrike" baseline="-25000">
                <a:solidFill>
                  <a:srgbClr val="9a3d01"/>
                </a:solidFill>
                <a:latin typeface="Century Schoolbook"/>
              </a:rPr>
              <a:t>2</a:t>
            </a:r>
            <a:r>
              <a:rPr b="1" lang="en-US" sz="3400" spc="-1" strike="noStrike" baseline="-25000">
                <a:solidFill>
                  <a:srgbClr val="9a3d01"/>
                </a:solidFill>
                <a:latin typeface="Century Schoolbook"/>
              </a:rPr>
              <a:t>n</a:t>
            </a:r>
            <a:r>
              <a:rPr b="1" lang="ru-RU" sz="3400" spc="-1" strike="noStrike" baseline="-25000">
                <a:solidFill>
                  <a:srgbClr val="9a3d01"/>
                </a:solidFill>
                <a:latin typeface="Century Schoolbook"/>
              </a:rPr>
              <a:t>+1</a:t>
            </a:r>
            <a:r>
              <a:rPr b="1" lang="ru-RU" sz="3400" spc="-1" strike="noStrike">
                <a:solidFill>
                  <a:srgbClr val="9a3d01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9a3d01"/>
                </a:solidFill>
                <a:latin typeface="Century Schoolbook"/>
              </a:rPr>
              <a:t>OH</a:t>
            </a:r>
            <a:r>
              <a:rPr b="1" lang="ru-RU" sz="2700" spc="-1" strike="noStrike">
                <a:solidFill>
                  <a:srgbClr val="9a3d01"/>
                </a:solidFill>
                <a:latin typeface="Century Schoolbook"/>
              </a:rPr>
              <a:t>    или      </a:t>
            </a:r>
            <a:r>
              <a:rPr b="1" lang="en-US" sz="3400" spc="-1" strike="noStrike">
                <a:solidFill>
                  <a:srgbClr val="9a3d01"/>
                </a:solidFill>
                <a:latin typeface="Century Schoolbook"/>
              </a:rPr>
              <a:t>R</a:t>
            </a:r>
            <a:r>
              <a:rPr b="1" lang="ru-RU" sz="3400" spc="-1" strike="noStrike">
                <a:solidFill>
                  <a:srgbClr val="9a3d01"/>
                </a:solidFill>
                <a:latin typeface="Century Schoolbook"/>
              </a:rPr>
              <a:t>-</a:t>
            </a:r>
            <a:r>
              <a:rPr b="1" lang="en-US" sz="3400" spc="-1" strike="noStrike">
                <a:solidFill>
                  <a:srgbClr val="9a3d01"/>
                </a:solidFill>
                <a:latin typeface="Century Schoolbook"/>
              </a:rPr>
              <a:t>OH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3d01"/>
                </a:solidFill>
                <a:latin typeface="Century Schoolbook"/>
              </a:rPr>
              <a:t>                                                                 </a:t>
            </a:r>
            <a:r>
              <a:rPr b="1" lang="ru-RU" sz="2400" spc="-1" strike="noStrike">
                <a:solidFill>
                  <a:srgbClr val="9a3d01"/>
                </a:solidFill>
                <a:latin typeface="Century Schoolbook"/>
              </a:rPr>
              <a:t>где </a:t>
            </a: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R   </a:t>
            </a:r>
            <a:r>
              <a:rPr b="1" lang="ru-RU" sz="2400" spc="-1" strike="noStrike">
                <a:solidFill>
                  <a:srgbClr val="9a3d01"/>
                </a:solidFill>
                <a:latin typeface="Century Schoolbook"/>
              </a:rPr>
              <a:t>-</a:t>
            </a: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9a3d01"/>
                </a:solidFill>
                <a:latin typeface="Century Schoolbook"/>
              </a:rPr>
              <a:t>радика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117000"/>
            <a:ext cx="815364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alibri"/>
              </a:rPr>
              <a:t>СПИРТЫ  В  ПРИРОД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68000" y="1275840"/>
            <a:ext cx="84963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Метиловый спирт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небольшом количестве содержится в некоторых растениях, например: борщевике (Heracleum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Этиловый спирт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— естественный продукт спиртового брожения органических продуктов, содержащих углеводы, часто образующийся в прокисших ягодах и фруктах без всякого участия человек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пирты имеют самое широкое распространение в природе, особенно в виде сложных эфиров, однако и в свободном состоянии их можно встретить достаточно часто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анол является естественным метаболитом и содержится в тканях и крови животных и человек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Рисунок 6" descr="826937.gif"/>
          <p:cNvPicPr/>
          <p:nvPr/>
        </p:nvPicPr>
        <p:blipFill>
          <a:blip r:embed="rId1"/>
          <a:stretch/>
        </p:blipFill>
        <p:spPr>
          <a:xfrm>
            <a:off x="900000" y="1951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79280" y="123480"/>
            <a:ext cx="878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7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ОЧЕНЬ ШИРОКО ПРЕДСТАВЛЕНЫ В РАСТИТЕЛЬНОМ МИРЕ ТЕРПЕНОВЫЕ СПИРТЫ, МНОГИЕ ИЗ КОТОРЫХ ЯВЛЯЮТСЯ ДУШИСТЫМИ ВЕЩЕСТВАМИ.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8000" y="1131840"/>
            <a:ext cx="849636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306000" indent="-306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306000" indent="-306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орнеол — в древесине борнеокамфорного дерев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06000" indent="-306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ентол — содержится в эфирном масле мяты и геран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06000" indent="-306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Гераниол — содержится во многих эфирных цветочных маслах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06000" indent="-306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Линалоол — содержится во многих цветочных эфирных маслах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06000" indent="-306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ерпинеол — содержится во многих эфирных маслах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06000" indent="-306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исаболол — входит в состав эфирного масла ромашки, тополя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06000" indent="-306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анталол — входит в состав древесины сандалового дерев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06000" indent="-306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Фенхол — содержится в смоле хвойных деревьев и плодах фенхеля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06000" indent="-306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06000" indent="-306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1" descr="D:\ИЗОБРАЖЕНИЯ_2\КАРТИНКИ_смесь\images22.jpeg"/>
          <p:cNvPicPr/>
          <p:nvPr/>
        </p:nvPicPr>
        <p:blipFill>
          <a:blip r:embed="rId1"/>
          <a:stretch/>
        </p:blipFill>
        <p:spPr>
          <a:xfrm>
            <a:off x="7808760" y="1341360"/>
            <a:ext cx="1256040" cy="10908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D:\ИЗОБРАЖЕНИЯ_2\Растения_рис\c65cfcb5bc4a.png"/>
          <p:cNvPicPr/>
          <p:nvPr/>
        </p:nvPicPr>
        <p:blipFill>
          <a:blip r:embed="rId2"/>
          <a:stretch/>
        </p:blipFill>
        <p:spPr>
          <a:xfrm>
            <a:off x="0" y="3363840"/>
            <a:ext cx="858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9280" y="123480"/>
            <a:ext cx="878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7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8360" y="134784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Rectangle 1"/>
          <p:cNvSpPr/>
          <p:nvPr/>
        </p:nvSpPr>
        <p:spPr>
          <a:xfrm>
            <a:off x="468360" y="225900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 природе находятся разнообразные многоатомные или сахарные спирты, наприм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орби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— содержится в ягодах вишни и ряб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анни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— содержится в морских водорослях, гриб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4"/>
          <p:cNvSpPr/>
          <p:nvPr/>
        </p:nvSpPr>
        <p:spPr>
          <a:xfrm>
            <a:off x="1619280" y="1951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e84b4"/>
                </a:solidFill>
                <a:latin typeface="Century Schoolbook"/>
              </a:rPr>
              <a:t>Спирты  в  приро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D:\ИЗОБРАЖЕНИЯ_2\КАРТИНКИ_смесь\0_STATIC60314_e8ed9c4d_L.jpeg"/>
          <p:cNvPicPr/>
          <p:nvPr/>
        </p:nvPicPr>
        <p:blipFill>
          <a:blip r:embed="rId1"/>
          <a:stretch/>
        </p:blipFill>
        <p:spPr>
          <a:xfrm>
            <a:off x="7375680" y="3932280"/>
            <a:ext cx="1353960" cy="1023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D:\ИЗОБРАЖЕНИЯ_2\Pictures\Flower\card7 (копия).jpg"/>
          <p:cNvPicPr/>
          <p:nvPr/>
        </p:nvPicPr>
        <p:blipFill>
          <a:blip r:embed="rId2"/>
          <a:stretch/>
        </p:blipFill>
        <p:spPr>
          <a:xfrm>
            <a:off x="298440" y="1487520"/>
            <a:ext cx="79200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9280" y="26784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95280" y="134784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оторые предельные одноатомные спирты встречаются в эфирных маслах ромашки и герани, например, гексиловый, октиловый, нониловый спирт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дециловый спирт в (12 атомов углеро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лекуле) содержится в банана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5" name="Picture 1" descr="D:\ИЗОБРАЖЕНИЯ_2\для презентаций\Narabo3.gif"/>
          <p:cNvPicPr/>
          <p:nvPr/>
        </p:nvPicPr>
        <p:blipFill>
          <a:blip r:embed="rId1"/>
          <a:stretch/>
        </p:blipFill>
        <p:spPr>
          <a:xfrm>
            <a:off x="2484360" y="339840"/>
            <a:ext cx="67644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ПРИМЕНЕНИЕ СПИРТОВ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7" name="Объект 3" descr="https://himija-online.ru/wp-content/uploads/2017/02/%D0%BF%D1%80%D0%B8%D0%BC%D0%B5%D0%BD%D0%B5%D0%BD%D0%B8%D0%B5-%D0%BC%D0%B5%D1%82%D0%B0%D0%BD%D0%BE%D0%BB%D0%B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857160"/>
            <a:ext cx="80010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Заголовок 1"/>
          <p:cNvGrpSpPr/>
          <p:nvPr/>
        </p:nvGrpSpPr>
        <p:grpSpPr>
          <a:xfrm>
            <a:off x="281160" y="426960"/>
            <a:ext cx="8588160" cy="689040"/>
            <a:chOff x="281160" y="426960"/>
            <a:chExt cx="8588160" cy="689040"/>
          </a:xfrm>
        </p:grpSpPr>
        <p:pic>
          <p:nvPicPr>
            <p:cNvPr id="42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1160" y="426960"/>
              <a:ext cx="85881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457200" y="514440"/>
              <a:ext cx="8353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428760" indent="-4287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ffffff"/>
                  </a:solidFill>
                  <a:latin typeface="Century Schoolbook"/>
                </a:rPr>
                <a:t>ПРИМЕНЕНИЕ ЭТАНОЛ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 txBox="1"/>
          <p:nvPr/>
        </p:nvSpPr>
        <p:spPr>
          <a:xfrm>
            <a:off x="457200" y="1428840"/>
            <a:ext cx="3641760" cy="3571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В промышленности и медицине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 - производство уксусной кислоты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 - косметика и парфюмерия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 - медицинские препараты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 - лекарственные средства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 - производство сложных эфиров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 - лаки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, 8 - синтетические каучук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8129520" y="4300560"/>
            <a:ext cx="6098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A43A-37BA-4D4B-80AF-41B48A902D3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Рисунок 4" descr=""/>
          <p:cNvPicPr/>
          <p:nvPr/>
        </p:nvPicPr>
        <p:blipFill>
          <a:blip r:embed="rId2"/>
          <a:stretch/>
        </p:blipFill>
        <p:spPr>
          <a:xfrm>
            <a:off x="4181400" y="1081080"/>
            <a:ext cx="4629240" cy="3575160"/>
          </a:xfrm>
          <a:prstGeom prst="rect">
            <a:avLst/>
          </a:prstGeom>
          <a:ln w="9360">
            <a:solidFill>
              <a:srgbClr val="0070c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7467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72864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7:52:41Z</dcterms:created>
  <dc:creator/>
  <dc:description/>
  <dc:language>en-US</dc:language>
  <cp:lastModifiedBy/>
  <dcterms:modified xsi:type="dcterms:W3CDTF">2023-10-19T17:07:3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9</vt:r8>
  </property>
  <property fmtid="{D5CDD505-2E9C-101B-9397-08002B2CF9AE}" pid="3" name="_Version">
    <vt:lpwstr>12.0.4518</vt:lpwstr>
  </property>
</Properties>
</file>