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20.wmf" ContentType="image/x-wmf"/>
  <Override PartName="/ppt/media/image54.jpeg" ContentType="image/jpeg"/>
  <Override PartName="/ppt/media/image30.gif" ContentType="image/gif"/>
  <Override PartName="/ppt/media/image53.jpeg" ContentType="image/jpeg"/>
  <Override PartName="/ppt/media/image50.wmf" ContentType="image/x-wmf"/>
  <Override PartName="/ppt/media/image43.jpeg" ContentType="image/jpeg"/>
  <Override PartName="/ppt/media/image25.gif" ContentType="image/gif"/>
  <Override PartName="/ppt/media/image46.wmf" ContentType="image/x-wmf"/>
  <Override PartName="/ppt/media/image11.wmf" ContentType="image/x-wmf"/>
  <Override PartName="/ppt/media/image5.jpeg" ContentType="image/jpeg"/>
  <Override PartName="/ppt/media/image62.jpeg" ContentType="image/jpeg"/>
  <Override PartName="/ppt/media/image48.wmf" ContentType="image/x-wmf"/>
  <Override PartName="/ppt/media/image18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45.jpeg" ContentType="image/jpeg"/>
  <Override PartName="/ppt/media/image28.gif" ContentType="image/gif"/>
  <Override PartName="/ppt/media/image41.jpeg" ContentType="image/jpeg"/>
  <Override PartName="/ppt/media/image23.wmf" ContentType="image/x-wmf"/>
  <Override PartName="/ppt/media/image58.wmf" ContentType="image/x-wmf"/>
  <Override PartName="/ppt/media/image21.wmf" ContentType="image/x-wmf"/>
  <Override PartName="/ppt/media/image63.jpeg" ContentType="image/jpeg"/>
  <Override PartName="/ppt/media/image6.jpeg" ContentType="image/jpeg"/>
  <Override PartName="/ppt/media/image60.png" ContentType="image/png"/>
  <Override PartName="/ppt/media/image22.wmf" ContentType="image/x-wmf"/>
  <Override PartName="/ppt/media/image59.wmf" ContentType="image/x-wmf"/>
  <Override PartName="/ppt/media/image69.wmf" ContentType="image/x-wmf"/>
  <Override PartName="/ppt/media/image24.jpeg" ContentType="image/jpeg"/>
  <Override PartName="/ppt/media/image68.wmf" ContentType="image/x-wmf"/>
  <Override PartName="/ppt/media/image44.jpeg" ContentType="image/jpeg"/>
  <Override PartName="/ppt/media/image38.png" ContentType="image/png"/>
  <Override PartName="/ppt/media/image35.gif" ContentType="image/gif"/>
  <Override PartName="/ppt/media/image19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32.gif" ContentType="image/gif"/>
  <Override PartName="/ppt/media/coin.wav" ContentType="audio/x-wav"/>
  <Override PartName="/ppt/media/image64.wmf" ContentType="image/x-wmf"/>
  <Override PartName="/ppt/media/image27.wmf" ContentType="image/x-wmf"/>
  <Override PartName="/ppt/media/image26.wmf" ContentType="image/x-wmf"/>
  <Override PartName="/ppt/media/image9.wmf" ContentType="image/x-wmf"/>
  <Override PartName="/ppt/media/image12.wmf" ContentType="image/x-wmf"/>
  <Override PartName="/ppt/media/image49.wmf" ContentType="image/x-wmf"/>
  <Override PartName="/ppt/media/image51.png" ContentType="image/png"/>
  <Override PartName="/ppt/media/image7.jpeg" ContentType="image/jpeg"/>
  <Override PartName="/ppt/media/image4.png" ContentType="image/png"/>
  <Override PartName="/ppt/media/image31.wmf" ContentType="image/x-wmf"/>
  <Override PartName="/ppt/media/image61.jpeg" ContentType="image/jpeg"/>
  <Override PartName="/ppt/media/image8.wmf" ContentType="image/x-wmf"/>
  <Override PartName="/ppt/media/image2.png" ContentType="image/png"/>
  <Override PartName="/ppt/media/image47.wmf" ContentType="image/x-wmf"/>
  <Override PartName="/ppt/media/image13.wmf" ContentType="image/x-wmf"/>
  <Override PartName="/ppt/media/image17.jpeg" ContentType="image/jpeg"/>
  <Override PartName="/ppt/media/image3.png" ContentType="image/png"/>
  <Override PartName="/ppt/media/image10.wmf" ContentType="image/x-wmf"/>
  <Override PartName="/ppt/media/image56.jpeg" ContentType="image/jpeg"/>
  <Override PartName="/ppt/media/image29.gif" ContentType="image/gif"/>
  <Override PartName="/ppt/media/image55.jpeg" ContentType="image/jpeg"/>
  <Override PartName="/ppt/media/image33.wmf" ContentType="image/x-wmf"/>
  <Override PartName="/ppt/media/image52.jpeg" ContentType="image/jpeg"/>
  <Override PartName="/ppt/media/image1.png" ContentType="image/png"/>
  <Override PartName="/ppt/media/image34.wmf" ContentType="image/x-wmf"/>
  <Override PartName="/ppt/media/image37.png" ContentType="image/png"/>
  <Override PartName="/ppt/media/image40.wmf" ContentType="image/x-wmf"/>
  <Override PartName="/ppt/media/image36.gif" ContentType="image/gif"/>
  <Override PartName="/ppt/media/image39.png" ContentType="image/png"/>
  <Override PartName="/ppt/media/image4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F9B5-E6B6-4EA7-9F35-21D2D9F105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8CC4-C908-47F9-8D6D-68BFBB626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11EC-2C53-4128-BC53-CD89DE434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09F-E4E4-4AEA-AE1E-6B1DBFC11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F21-CFFD-4382-B029-AE27E60D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FF2-AF5E-4172-BCB7-3C01C281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C20-CBF2-4A8E-B71F-77975C9A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850-ED11-4637-BF71-82A740B2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A7A0-722B-40AC-B8CE-68575AC1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F337-8D95-4819-B0FB-2017FC72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D0DE-68FF-41E7-AA0E-26B22EEF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9799-9451-4B11-8B4B-62AE4BE9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4AEB-A13A-4C1B-8CD9-629A2C21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C6E9-6EA7-45CC-88BC-01DD6203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AD86-2D4D-416A-8D4E-F7BF3A36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293-6D17-46DE-B47A-53AB9A8A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9528-B9C9-498A-9C12-52644A16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CA48-DF33-4F54-8B8B-DA0C0B54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6BF3-B9A6-4CB0-83D2-37BF72F6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8018-8C01-44D5-BA4A-5BD5ADEA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1FA7-ABDC-4458-8440-FB0B7F01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E427-CC70-457C-9D18-9129D9AE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0EC3-F9E7-4D6E-92D9-8C211C3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5640-3E22-474C-BC21-8AC95C10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331A-6F7E-45D3-B446-F827E8EF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A303-EE92-435D-B875-C5FC25FB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B9E-891E-4692-AADC-AEF3AFCF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84D8-AA2E-4D45-9F53-8D90B790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F231-DAEC-463E-8BB3-0E36D3F7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BC58-9AEF-4E22-BFE5-C65C9FE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646B-9AD4-4562-A98E-7609126A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EF54-B77B-47D2-A1F6-D1E14975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7D09-0100-4964-8F81-C18ECDEF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0D01-1831-47E1-88B0-32851BC6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0523-72CB-43CF-8E30-D172CF68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C12BA-EE2B-4BA6-A139-B10DD985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822B-648D-46DD-B5D9-D47C3746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CB9-6863-4BAB-A563-AC0C08BA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306D-0EF9-4CE9-8D57-531A9790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05AA9-0A29-49AC-982A-C99FFE6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8480-61A5-4803-B1CD-C8EAD039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BEB91-1FF0-4427-9E1F-2C8D65CA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6761-3284-48C1-8632-1E2D234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42F56-8045-4A27-9E46-9FF78151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8790-6B87-44A4-901C-951D0CEC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5A23-5B5C-4841-916F-2CE17969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C6CC-3AC1-4F4B-9DBF-18AD0C41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65E84-70B2-4C00-AC58-21C6B4AF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132-C3ED-4CAC-9AAD-888078A1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9CFBB-D818-40E8-864D-9AC1134F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1ED4-1DD3-4B32-B82A-B27005DE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3408-E98E-4B38-B7C2-00DE3195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AD255-B97E-454A-A822-72B5A707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EA631-55AF-4524-8751-FD53236E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9F1AB-A098-4E74-9098-5C3B6C62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62D40-E038-42C0-90A7-581ED4C3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208BA-6FB9-4F72-8D9B-01F34C21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33BAF-1271-4FAB-B845-47DB8A61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58A0A-F336-4BF5-9B24-891F1412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C31-AFE2-4EFA-94E5-7E91C723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78D0-F90B-430A-9EB3-45ACCA9D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B9646-EA6B-467A-AFCA-A4B1A3F1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5474E-BD42-4C52-9DEA-9B3B0D7D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D560B-5101-40E8-A8ED-9F6A7F74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9475-DB19-4376-A1B7-7CA51BAF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33C33-3E08-4821-B14C-73EA5624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41772-7F03-48F8-B642-D3B08A25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A71DD-882F-4D80-B89F-3D2A7A9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1964F-513C-45C6-85DB-ADCF876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D7E2D-D1F3-4FAE-B9A3-90ED4FD3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21A-B13E-4D9C-86D6-49A1F74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78B6F-3407-410E-BD51-03DB0C05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15C7B-9A51-4335-B7DF-17E7EE24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03DEF-54BC-4BF9-8E20-B03D3EF0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9E24-8787-449F-BD7E-C87386E0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D183F-743B-44E0-A20C-893AB4B1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0BD3C-CF45-4663-8322-B9FEAC28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742E2-2087-49C7-BA63-ABA781D7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D9F65-C954-4F85-80CD-7CBE020E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E5AAB-448D-4A5C-8CC9-24F653FF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54331-5D75-4868-B1F0-AED9E91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43C-F807-4C94-8575-0F4E447E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C8DBC-7CE9-426E-9AB8-3FF51955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2D733-5FFA-43E2-9523-611A4FB7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E42B6-B7B5-4FFC-9D36-736A270A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7CEA-0E40-46F9-8ABC-46C392AD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AC23B-A856-4DDA-A005-5C982305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EEA15-A72A-41F6-B11C-00940282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EAC8C-7516-44D7-985E-5EE49DBD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25B75-5DD7-4373-9890-874E9CE4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59A1A-275D-4EDD-8507-E4007071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BF1C2-5881-4E62-BB4F-C46FD4C9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74F-4143-49AD-A426-5447EB77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67407-544B-4A08-815B-03B0B416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4493D-7EC7-469D-9E70-8AD3AEF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AADD3-2E5D-494B-BEDB-8FF78E8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8BFF5-15FA-4769-A613-60DD274B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0B4C4-8179-4D0A-9C47-F1FC4FBA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1E0E0-7ABC-485E-9941-E0B01B9A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3A1C-D095-49F1-BA9E-5BF7ACEA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DA0-CE8F-437E-928B-C51A982EFA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2F6D-0EAF-4444-8C9A-53B9A4BCCF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A8C6-A07E-4665-B737-60701A0A5A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30F7-29ED-4527-8FE8-8BE19295F6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CAE3-FA8C-4842-8BED-F354B8B2BE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BFF1-3F9C-4D5D-AE77-1FB7882AC3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7B63-F58F-483A-BB4C-54B411A98E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1696-C9C5-47D7-9E5A-50BC95794AE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35.gif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" Target="slide2.xml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" Target="slide2.xml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6920" y="75456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571560" y="1285920"/>
            <a:ext cx="5143320" cy="335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464646"/>
                </a:solidFill>
                <a:uFillTx/>
                <a:latin typeface="Times New Roman"/>
                <a:ea typeface="Times New Roman"/>
              </a:rPr>
              <a:t>Комбинированное  дискуссионное  занятие №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 лабораторно-практической частью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пециальность 34.02.01 Сестринское дело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редмет ОУП.7. Химия и ОП 08 Гигиена и здоровье человек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ма «Влияние спирта на организм человека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8" descr="etanol"/>
          <p:cNvPicPr/>
          <p:nvPr/>
        </p:nvPicPr>
        <p:blipFill>
          <a:blip r:embed="rId1"/>
          <a:stretch/>
        </p:blipFill>
        <p:spPr>
          <a:xfrm>
            <a:off x="714240" y="1285920"/>
            <a:ext cx="20718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6"/>
          <p:cNvSpPr/>
          <p:nvPr/>
        </p:nvSpPr>
        <p:spPr>
          <a:xfrm>
            <a:off x="2268360" y="3259080"/>
            <a:ext cx="4465800" cy="3598920"/>
          </a:xfrm>
          <a:prstGeom prst="irregularSeal1">
            <a:avLst/>
          </a:prstGeom>
          <a:solidFill>
            <a:srgbClr val="44b9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ЛЕН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Б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 ПОГИБ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</a:rPr>
              <a:t>ОТ 50-6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4859280" y="0"/>
            <a:ext cx="4284720" cy="4537080"/>
          </a:xfrm>
          <a:prstGeom prst="irregularSeal1">
            <a:avLst/>
          </a:prstGeom>
          <a:solidFill>
            <a:srgbClr val="2da2b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ВЗРОСЛЫЙ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ОСЛЕ ОДНОКРА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Ё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1-1,5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611280" y="476280"/>
            <a:ext cx="448452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КОГОЛЬ – СМЕРТЕЛЬНЫЙ ВРАГ ПОДРАСТАЮЩЕГО ПОКО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Й ТОКСИЧЕСКИЙ ФАКТОР БОЛЬШЕ ВЛИЯЕТ НА ОРГАНЫ И СИСТЕМЫ, НАХОДЯЩИЕСЯ В ПРОЦЕССЕ СТАНОВЛЕНИЯ И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10"/>
          <p:cNvGraphicFramePr/>
          <p:nvPr/>
        </p:nvGraphicFramePr>
        <p:xfrm>
          <a:off x="611280" y="4365720"/>
          <a:ext cx="139356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365720"/>
                    <a:ext cx="139356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1"/>
          <p:cNvGraphicFramePr/>
          <p:nvPr/>
        </p:nvGraphicFramePr>
        <p:xfrm>
          <a:off x="7236000" y="4005360"/>
          <a:ext cx="1250640" cy="28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4005360"/>
                    <a:ext cx="125064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AutoShape 12">
            <a:hlinkClick r:id="" action="ppaction://hlinkshowjump?jump=nextslide"/>
          </p:cNvPr>
          <p:cNvSpPr/>
          <p:nvPr/>
        </p:nvSpPr>
        <p:spPr>
          <a:xfrm>
            <a:off x="8675640" y="6391440"/>
            <a:ext cx="468360" cy="4665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83" h="21600">
                <a:moveTo>
                  <a:pt x="0" y="0"/>
                </a:moveTo>
                <a:lnTo>
                  <a:pt x="21683" y="0"/>
                </a:lnTo>
                <a:lnTo>
                  <a:pt x="21683" y="21600"/>
                </a:lnTo>
                <a:lnTo>
                  <a:pt x="0" y="21600"/>
                </a:lnTo>
                <a:close/>
              </a:path>
              <a:path fill="lightenLess" w="21683" h="21600">
                <a:moveTo>
                  <a:pt x="0" y="0"/>
                </a:moveTo>
                <a:lnTo>
                  <a:pt x="21683" y="0"/>
                </a:lnTo>
                <a:lnTo>
                  <a:pt x="20283" y="1400"/>
                </a:lnTo>
                <a:lnTo>
                  <a:pt x="1400" y="1400"/>
                </a:lnTo>
                <a:close/>
              </a:path>
              <a:path fill="darken" w="21683" h="21600">
                <a:moveTo>
                  <a:pt x="21683" y="0"/>
                </a:moveTo>
                <a:lnTo>
                  <a:pt x="21683" y="21600"/>
                </a:lnTo>
                <a:lnTo>
                  <a:pt x="20283" y="20200"/>
                </a:lnTo>
                <a:lnTo>
                  <a:pt x="20283" y="1400"/>
                </a:lnTo>
                <a:close/>
              </a:path>
              <a:path fill="darkenLess" w="21683" h="21600">
                <a:moveTo>
                  <a:pt x="2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3" y="20200"/>
                </a:lnTo>
                <a:close/>
              </a:path>
              <a:path fill="lighten" w="2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3" h="21600">
                <a:moveTo>
                  <a:pt x="3835" y="3794"/>
                </a:moveTo>
                <a:lnTo>
                  <a:pt x="17848" y="10800"/>
                </a:lnTo>
                <a:lnTo>
                  <a:pt x="383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700"/>
                            </p:stCondLst>
                            <p:childTnLst>
                              <p:par>
                                <p:cTn id="3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7"/>
          <p:cNvSpPr/>
          <p:nvPr/>
        </p:nvSpPr>
        <p:spPr>
          <a:xfrm>
            <a:off x="755640" y="449280"/>
            <a:ext cx="8028000" cy="6408720"/>
          </a:xfrm>
          <a:prstGeom prst="cloudCallout">
            <a:avLst>
              <a:gd name="adj1" fmla="val -55004"/>
              <a:gd name="adj2" fmla="val 45666"/>
            </a:avLst>
          </a:prstGeom>
          <a:solidFill>
            <a:srgbClr val="44b9e8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ЗВЕСТНЫ 3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ПЬЯ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ЙФОРИЧЕСКАЯ – САМАЯ ЛЁГКАЯ СТЕПЕНЬ ОПЬЯ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def5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2. СТЕПЕНЬ УГНЕТЕНИЯ ОТДЕЛОВ ГОЛОВНОГО МОЗ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3. САМАЯ ТЯЖЁЛАЯ, КОГДА МОЖЕТ БЫТЬ ПАРАЛ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ВЕГЕТАТИВНЫХ ЦЕН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0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4"/>
          <p:cNvSpPr txBox="1"/>
          <p:nvPr/>
        </p:nvSpPr>
        <p:spPr>
          <a:xfrm>
            <a:off x="1403280" y="404640"/>
            <a:ext cx="7248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dashDot"/>
                  <a:miter/>
                </a:ln>
                <a:solidFill>
                  <a:srgbClr val="800080"/>
                </a:solidFill>
                <a:latin typeface="Comic Sans MS"/>
              </a:rPr>
              <a:t>МЕХАНИЗМ ДЕЙСТВИЯ АЛКОГОЛЯ</a:t>
            </a:r>
            <a:endParaRPr b="1" lang="en-US" sz="3200" spc="1" strike="noStrike">
              <a:ln w="19080">
                <a:solidFill>
                  <a:srgbClr val="000000"/>
                </a:solidFill>
                <a:prstDash val="dashDot"/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250920" y="47628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ЛЁГК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ПРОСТОГО ОПЬЯНЕНИЯ – </a:t>
            </a:r>
            <a:r>
              <a:rPr b="1" i="1" lang="ru-RU" sz="2000" spc="-1" strike="noStrike">
                <a:solidFill>
                  <a:srgbClr val="cc0099"/>
                </a:solidFill>
                <a:latin typeface="Arial"/>
              </a:rPr>
              <a:t>ЭЙФО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БУЖДЕНИЕ, ХОРОШЕЕ НАСТРОЕНИЕ, БОДР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СТВО БЛАГОПОЛУЧ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2771640" y="2276640"/>
            <a:ext cx="622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ЬНАЯ ДЕЙСТВИТЕЛЬНОСТЬ, ВЗАИМООТНОШ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ДУ ЛЮДЬМИ ОЦЕНИВАЮТСЯ НЕАДЕКВ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50920" y="3500280"/>
            <a:ext cx="8640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ГНОРИРУЮТСЯ ПЕРЕЖИВАНИЯ, ПОДАВЛЯЕТСЯ ТРЕВОГА, СТРАХ, ВОЛН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БЛЮДАЕТСЯ ПОВЫШЕННОЕ НАСТРОЕНИЕ, ДВИГАТЕ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РАСТОРМОЖ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250920" y="479736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ИТ НАРУШЕНИЕ КООРДИНАЦИИ ДВИЖЕНИЙ, ТОЧНОСТИ ДЕЙСТВ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КОРЯЕТСЯ ТЕМП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79280" y="56610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ЧЕЛОВЕК ГОВОРИТ МНОГО, ПЕРЕОЦЕНИВАЕТ СВОИ ВОЗМОЖНОСТИ, СТАНОВИТСЯ ХВАСТЛИВЫМ, СОВЕРШАТ ОПРОМЕТЧИВЫЕ ПОСТ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1" descr="j0282751"/>
          <p:cNvPicPr/>
          <p:nvPr/>
        </p:nvPicPr>
        <p:blipFill>
          <a:blip r:embed="rId1"/>
          <a:stretch/>
        </p:blipFill>
        <p:spPr>
          <a:xfrm>
            <a:off x="7164360" y="33336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2" descr="j0282740"/>
          <p:cNvPicPr/>
          <p:nvPr/>
        </p:nvPicPr>
        <p:blipFill>
          <a:blip r:embed="rId2"/>
          <a:stretch/>
        </p:blipFill>
        <p:spPr>
          <a:xfrm>
            <a:off x="684360" y="170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"/>
          <p:cNvPicPr/>
          <p:nvPr/>
        </p:nvPicPr>
        <p:blipFill>
          <a:blip r:embed="rId3"/>
          <a:stretch/>
        </p:blipFill>
        <p:spPr>
          <a:xfrm>
            <a:off x="6732720" y="5121360"/>
            <a:ext cx="2103480" cy="173664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4">
            <a:hlinkClick r:id="" action="ppaction://hlinkshowjump?jump=next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5"/>
          <p:cNvSpPr/>
          <p:nvPr/>
        </p:nvSpPr>
        <p:spPr>
          <a:xfrm>
            <a:off x="179280" y="49680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ЭЙФОРИЯ СМЕНЯЕТСЯ ЗЛОБНОСТЬЮ, АГРЕССИВНОСТЬЮ, ПЛАКСИВОСТЬЮ, ЧУВСТВО СИМПАТИИ ПЕРЕХОДИТ В АНТИПА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50920" y="1844640"/>
            <a:ext cx="79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СТЕПЕНЬ ОПЬЯНЕНИЯ –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СТЕПЕНЬ УГНЕТЕНИЯ ОТДЕЛОВ ГОЛОВНОГО МОЗ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ЩАЯ ВЯЛОСТЬ, СНИЖЕНИЕ ТЕМПА МЫШЛЕНИЯ, НАРУШЕНИЕ ПОХОДКИ, ПОТЕРЯ КОНТРОЛЯ НАД СВОИМ ПОВЕДЕНИ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700360" y="3429000"/>
            <a:ext cx="64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РЕТЬЯ СТЕПЕНЬ – САМАЯ ТЯЖЁЛ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ЫШЕЧНАЯ ГИПОТОНИЯ, ТЕМПЕРАТУРА СНИЖАЕТСЯ, УГАСАЮТ РЕФЛЕКТОРНЫЕ РЕАКЦИ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340000" y="4941720"/>
            <a:ext cx="657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КОЖА СТАНОВИТСЯ БЛЕДНОЙ И ХОЛОД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ПАДКИ, НЕПРОИЗВОЛЬНОЕ ОТХОЖДЕНИЕ МОЧИ И 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РТЬ МОЖЕТ НАСТУПИТЬ ОТ ПАРАЛИЧА НЕРВНЫХ ЦЕН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" descr="j0304421"/>
          <p:cNvPicPr/>
          <p:nvPr/>
        </p:nvPicPr>
        <p:blipFill>
          <a:blip r:embed="rId1"/>
          <a:stretch/>
        </p:blipFill>
        <p:spPr>
          <a:xfrm>
            <a:off x="704880" y="3716280"/>
            <a:ext cx="1247760" cy="2305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1" descr="j0282737"/>
          <p:cNvPicPr/>
          <p:nvPr/>
        </p:nvPicPr>
        <p:blipFill>
          <a:blip r:embed="rId2"/>
          <a:stretch/>
        </p:blipFill>
        <p:spPr>
          <a:xfrm>
            <a:off x="7308720" y="260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12">
            <a:hlinkClick r:id="" action="ppaction://hlinkshowjump?jump=nextslide"/>
          </p:cNvPr>
          <p:cNvSpPr/>
          <p:nvPr/>
        </p:nvSpPr>
        <p:spPr>
          <a:xfrm>
            <a:off x="8677440" y="6453360"/>
            <a:ext cx="466560" cy="404640"/>
          </a:xfrm>
          <a:custGeom>
            <a:avLst/>
            <a:gdLst>
              <a:gd name="textAreaLeft" fmla="*/ 25920 w 466560"/>
              <a:gd name="textAreaRight" fmla="*/ 440640 w 466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02" h="21600">
                <a:moveTo>
                  <a:pt x="0" y="0"/>
                </a:moveTo>
                <a:lnTo>
                  <a:pt x="24902" y="0"/>
                </a:lnTo>
                <a:lnTo>
                  <a:pt x="24902" y="21600"/>
                </a:lnTo>
                <a:lnTo>
                  <a:pt x="0" y="21600"/>
                </a:lnTo>
                <a:close/>
              </a:path>
              <a:path fill="lightenLess" w="24902" h="21600">
                <a:moveTo>
                  <a:pt x="0" y="0"/>
                </a:moveTo>
                <a:lnTo>
                  <a:pt x="24902" y="0"/>
                </a:lnTo>
                <a:lnTo>
                  <a:pt x="23502" y="1400"/>
                </a:lnTo>
                <a:lnTo>
                  <a:pt x="1400" y="1400"/>
                </a:lnTo>
                <a:close/>
              </a:path>
              <a:path fill="darken" w="24902" h="21600">
                <a:moveTo>
                  <a:pt x="24902" y="0"/>
                </a:moveTo>
                <a:lnTo>
                  <a:pt x="24902" y="21600"/>
                </a:lnTo>
                <a:lnTo>
                  <a:pt x="23502" y="20200"/>
                </a:lnTo>
                <a:lnTo>
                  <a:pt x="23502" y="1400"/>
                </a:lnTo>
                <a:close/>
              </a:path>
              <a:path fill="darkenLess" w="24902" h="21600">
                <a:moveTo>
                  <a:pt x="2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2" y="20200"/>
                </a:lnTo>
                <a:close/>
              </a:path>
              <a:path fill="lighten" w="2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2" h="21600">
                <a:moveTo>
                  <a:pt x="5445" y="3794"/>
                </a:moveTo>
                <a:lnTo>
                  <a:pt x="19458" y="10800"/>
                </a:lnTo>
                <a:lnTo>
                  <a:pt x="544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179280" y="549360"/>
            <a:ext cx="24098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7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>
                    <a:alpha val="55000"/>
                  </a:srgbClr>
                </a:solidFill>
                <a:latin typeface="Arial"/>
              </a:rPr>
              <a:t>АЛКОГОЛИЗМ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>
                  <a:alpha val="5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395280" y="1628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ПРИЧИНА АЛКОГОЛИЗМ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(ЗАБОЛЕВАНИЕ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ЬЯНСТВО, РАСПУЩЕННОСТЬ, АМОРАЛЬ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НТИОБЩЕСТВЕН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0" y="501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ПЬЯНСТВО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– ЭТО СИТУАЦИОННОЕ ПОТРЕБЛЕНИЕ АЛКОГОЛЯ, КОТОРОЕ ОПРЕДЕЛЯЕТСЯ ВНЕШНИМИ ПРИЧИНАМИ И ОБСТОЯТЕЛЬ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1201680" y="765000"/>
            <a:ext cx="79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ЧТОБЫ ПОНЯТЬ РАЗВИТИЕ АЛКОГОЛИЗ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НУЖНО ЗНАТЬ 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ВЛИЯНИЕ АЛКОГОЛЯ НА НЕРВНУЮ СИС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9">
            <a:hlinkClick r:id="" action="ppaction://hlinkshowjump?jump=next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0" descr="j0398213[1]"/>
          <p:cNvPicPr/>
          <p:nvPr/>
        </p:nvPicPr>
        <p:blipFill>
          <a:blip r:embed="rId1"/>
          <a:stretch/>
        </p:blipFill>
        <p:spPr>
          <a:xfrm>
            <a:off x="3492360" y="2924280"/>
            <a:ext cx="170352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99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0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1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50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5" descr="bd05199_[1]"/>
          <p:cNvPicPr/>
          <p:nvPr/>
        </p:nvPicPr>
        <p:blipFill>
          <a:blip r:embed="rId1"/>
          <a:stretch/>
        </p:blipFill>
        <p:spPr>
          <a:xfrm>
            <a:off x="7308720" y="1268280"/>
            <a:ext cx="1513080" cy="128772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6"/>
          <p:cNvSpPr/>
          <p:nvPr/>
        </p:nvSpPr>
        <p:spPr>
          <a:xfrm>
            <a:off x="1798560" y="40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КОГОЛЬ ИЗ ЖЕЛУДКА ПОПАДАЕТ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В КРОВЬ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ЧЕРЕЗ 2 МИНУТЫ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ПОСЛЕ У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950760" y="2152800"/>
            <a:ext cx="58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250920" y="1628640"/>
            <a:ext cx="864072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В ПЕРВУЮ ОЧЕРЕДЬ СТРАД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КЛЕТКИ БОЛЬШИХ ПОЛУША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ГОЛОВНОГО МОЗ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УХУДШАЕТСЯ УСЛОВНО-РЕФЛЕКТО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ЗАМЕДЛЯЕТСЯ ФОРМИРОВАНИЕ СЛОЖ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В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ИЗМЕНЯЕТСЯ СООТНОШЕНИЕ ПРОЦЕ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ЗБУЖДЕНИЯ И ТОРМ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9" descr="AG00624_"/>
          <p:cNvPicPr/>
          <p:nvPr/>
        </p:nvPicPr>
        <p:blipFill>
          <a:blip r:embed="rId2"/>
          <a:stretch/>
        </p:blipFill>
        <p:spPr>
          <a:xfrm>
            <a:off x="324000" y="404640"/>
            <a:ext cx="1082520" cy="115272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10">
            <a:hlinkClick r:id="" action="ppaction://hlinkshowjump?jump=nextslide"/>
          </p:cNvPr>
          <p:cNvSpPr/>
          <p:nvPr/>
        </p:nvSpPr>
        <p:spPr>
          <a:xfrm>
            <a:off x="8677440" y="6535800"/>
            <a:ext cx="466560" cy="322200"/>
          </a:xfrm>
          <a:custGeom>
            <a:avLst/>
            <a:gdLst>
              <a:gd name="textAreaLeft" fmla="*/ 20880 w 466560"/>
              <a:gd name="textAreaRight" fmla="*/ 445680 w 4665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1267" h="21600">
                <a:moveTo>
                  <a:pt x="0" y="0"/>
                </a:moveTo>
                <a:lnTo>
                  <a:pt x="31267" y="0"/>
                </a:lnTo>
                <a:lnTo>
                  <a:pt x="31267" y="21600"/>
                </a:lnTo>
                <a:lnTo>
                  <a:pt x="0" y="21600"/>
                </a:lnTo>
                <a:close/>
              </a:path>
              <a:path fill="lightenLess" w="31267" h="21600">
                <a:moveTo>
                  <a:pt x="0" y="0"/>
                </a:moveTo>
                <a:lnTo>
                  <a:pt x="31267" y="0"/>
                </a:lnTo>
                <a:lnTo>
                  <a:pt x="29867" y="1400"/>
                </a:lnTo>
                <a:lnTo>
                  <a:pt x="1400" y="1400"/>
                </a:lnTo>
                <a:close/>
              </a:path>
              <a:path fill="darken" w="31267" h="21600">
                <a:moveTo>
                  <a:pt x="31267" y="0"/>
                </a:moveTo>
                <a:lnTo>
                  <a:pt x="31267" y="21600"/>
                </a:lnTo>
                <a:lnTo>
                  <a:pt x="29867" y="20200"/>
                </a:lnTo>
                <a:lnTo>
                  <a:pt x="29867" y="1400"/>
                </a:lnTo>
                <a:close/>
              </a:path>
              <a:path fill="darkenLess" w="31267" h="21600">
                <a:moveTo>
                  <a:pt x="31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7" y="20200"/>
                </a:lnTo>
                <a:close/>
              </a:path>
              <a:path fill="lighten" w="31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7" h="21600">
                <a:moveTo>
                  <a:pt x="8627" y="3794"/>
                </a:moveTo>
                <a:lnTo>
                  <a:pt x="22640" y="10800"/>
                </a:lnTo>
                <a:lnTo>
                  <a:pt x="8627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4"/>
          <p:cNvSpPr txBox="1"/>
          <p:nvPr/>
        </p:nvSpPr>
        <p:spPr>
          <a:xfrm>
            <a:off x="250920" y="260280"/>
            <a:ext cx="4176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9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da2b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АЛКОГОЛИЗМ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2da2b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395280" y="4076640"/>
            <a:ext cx="83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ХАРАКТЕРИЗУЕТСЯ ОСОБЫМ ПАТОЛОГИЧЕСКИМ СОСТОЯНИЕМ ОРГАН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ЕУДЕРЖИМОЕ ВЛЕЧЕНИЕ К СПИРТ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ИЗМЕНЕНИЕ СТЕПЕНИ ПЕРЕНОСИМОСТИ СПИР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ДЕГРАДАЦИЯ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808200" y="3160800"/>
            <a:ext cx="78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250920" y="1484280"/>
            <a:ext cx="8351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КОГОЛИЗМ -  НЕ ПРИВЫЧКА, 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ЕЗ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СТРАСТИЕ К АЛКОГОЛЮ ПРЕОДОЛЕТЬ СЛОЖНЕЕ ИЗ-ЗА ОТРАВЛЕНИЯ ОРГАН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0% ЛЮДЕЙ, УПОТРЕБЛЯЮЩИХ АЛКОГОЛ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ОВЯТСЯ АЛКОГОЛИК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2" descr="j0282747"/>
          <p:cNvPicPr/>
          <p:nvPr/>
        </p:nvPicPr>
        <p:blipFill>
          <a:blip r:embed="rId1"/>
          <a:stretch/>
        </p:blipFill>
        <p:spPr>
          <a:xfrm>
            <a:off x="7524720" y="2602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509" name="AutoShape 13">
            <a:hlinkClick r:id="" action="ppaction://hlinkshowjump?jump=nextslide"/>
          </p:cNvPr>
          <p:cNvSpPr/>
          <p:nvPr/>
        </p:nvSpPr>
        <p:spPr>
          <a:xfrm>
            <a:off x="8605800" y="6462720"/>
            <a:ext cx="538200" cy="395280"/>
          </a:xfrm>
          <a:custGeom>
            <a:avLst/>
            <a:gdLst>
              <a:gd name="textAreaLeft" fmla="*/ 25560 w 538200"/>
              <a:gd name="textAreaRight" fmla="*/ 512640 w 53820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9403" h="21600">
                <a:moveTo>
                  <a:pt x="0" y="0"/>
                </a:moveTo>
                <a:lnTo>
                  <a:pt x="29403" y="0"/>
                </a:lnTo>
                <a:lnTo>
                  <a:pt x="29403" y="21600"/>
                </a:lnTo>
                <a:lnTo>
                  <a:pt x="0" y="21600"/>
                </a:lnTo>
                <a:close/>
              </a:path>
              <a:path fill="lightenLess" w="29403" h="21600">
                <a:moveTo>
                  <a:pt x="0" y="0"/>
                </a:moveTo>
                <a:lnTo>
                  <a:pt x="29403" y="0"/>
                </a:lnTo>
                <a:lnTo>
                  <a:pt x="28003" y="1400"/>
                </a:lnTo>
                <a:lnTo>
                  <a:pt x="1400" y="1400"/>
                </a:lnTo>
                <a:close/>
              </a:path>
              <a:path fill="darken" w="29403" h="21600">
                <a:moveTo>
                  <a:pt x="29403" y="0"/>
                </a:moveTo>
                <a:lnTo>
                  <a:pt x="29403" y="21600"/>
                </a:lnTo>
                <a:lnTo>
                  <a:pt x="28003" y="20200"/>
                </a:lnTo>
                <a:lnTo>
                  <a:pt x="28003" y="1400"/>
                </a:lnTo>
                <a:close/>
              </a:path>
              <a:path fill="darkenLess" w="29403" h="21600">
                <a:moveTo>
                  <a:pt x="29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03" y="20200"/>
                </a:lnTo>
                <a:close/>
              </a:path>
              <a:path fill="lighten" w="29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03" h="21600">
                <a:moveTo>
                  <a:pt x="7695" y="3794"/>
                </a:moveTo>
                <a:lnTo>
                  <a:pt x="21708" y="10800"/>
                </a:lnTo>
                <a:lnTo>
                  <a:pt x="769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19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3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58" dur="3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59" dur="3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500" autoRev="1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65" dur="1500" autoRev="1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66" dur="1500" autoRev="1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15" descr="1"/>
          <p:cNvPicPr/>
          <p:nvPr/>
        </p:nvPicPr>
        <p:blipFill>
          <a:blip r:embed="rId1"/>
          <a:stretch/>
        </p:blipFill>
        <p:spPr>
          <a:xfrm>
            <a:off x="2514600" y="1743120"/>
            <a:ext cx="6248520" cy="4422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7" descr="2"/>
          <p:cNvPicPr/>
          <p:nvPr/>
        </p:nvPicPr>
        <p:blipFill>
          <a:blip r:embed="rId2"/>
          <a:stretch/>
        </p:blipFill>
        <p:spPr>
          <a:xfrm>
            <a:off x="324000" y="1628640"/>
            <a:ext cx="8686800" cy="46404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1142640" y="5357520"/>
            <a:ext cx="25002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Times New Roman"/>
              </a:rPr>
              <a:t>клет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3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  <p:sp>
        <p:nvSpPr>
          <p:cNvPr id="514" name="Oval 12"/>
          <p:cNvSpPr/>
          <p:nvPr/>
        </p:nvSpPr>
        <p:spPr>
          <a:xfrm>
            <a:off x="1143000" y="3141720"/>
            <a:ext cx="762120" cy="718920"/>
          </a:xfrm>
          <a:prstGeom prst="ellipse">
            <a:avLst/>
          </a:prstGeom>
          <a:solidFill>
            <a:srgbClr val="67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и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3962520" y="4114800"/>
            <a:ext cx="5181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ровая обол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0"/>
          <p:cNvSpPr/>
          <p:nvPr/>
        </p:nvSpPr>
        <p:spPr>
          <a:xfrm>
            <a:off x="4572000" y="28954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ромос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1"/>
          <p:cNvSpPr/>
          <p:nvPr/>
        </p:nvSpPr>
        <p:spPr>
          <a:xfrm>
            <a:off x="4495680" y="1905120"/>
            <a:ext cx="3733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4"/>
          <p:cNvSpPr/>
          <p:nvPr/>
        </p:nvSpPr>
        <p:spPr>
          <a:xfrm flipH="1">
            <a:off x="3429000" y="220968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5"/>
          <p:cNvSpPr/>
          <p:nvPr/>
        </p:nvSpPr>
        <p:spPr>
          <a:xfrm flipH="1">
            <a:off x="3352320" y="31240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6"/>
          <p:cNvSpPr/>
          <p:nvPr/>
        </p:nvSpPr>
        <p:spPr>
          <a:xfrm flipH="1">
            <a:off x="358092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0.00555 C -0.00573 0.00832 -0.03108 0.00555 0.00104 0.00971 C 0.00399 0.01133 0.00764 0.01272 0.01024 0.01526 C 0.01181 0.01665 0.01285 0.01873 0.01441 0.01989 C 0.01736 0.02105 0.02396 0.02244 0.02396 0.0229 C 0.0408 0.03377 0.02465 0.02429 0.07222 0.02706 C 0.07778 0.02752 0.08559 0.03053 0.09167 0.03123 C 0.09965 0.03701 0.1092 0.04672 0.11892 0.05019 C 0.12448 0.05181 0.12899 0.05575 0.1342 0.05713 C 0.13715 0.05829 0.14028 0.05829 0.14271 0.05898 C 0.15174 0.0606 0.1441 0.05968 0.15226 0.06315 C 0.1625 0.06731 0.15955 0.06546 0.1691 0.06731 C 0.17483 0.0687 0.17795 0.07194 0.1842 0.07333 C 0.19635 0.0805 0.20851 0.08744 0.22066 0.09507 C 0.22813 0.09993 0.2349 0.10525 0.2434 0.10802 C 0.25017 0.1145 0.25833 0.11866 0.26771 0.12121 C 0.28229 0.13509 0.28733 0.13671 0.30868 0.13833 C 0.34844 0.14827 0.38941 0.14897 0.43003 0.15012 C 0.43715 0.15151 0.44306 0.15267 0.44983 0.15429 C 0.46024 0.161 0.47726 0.16447 0.48941 0.16609 C 0.49965 0.16956 0.5 0.1721 0.49688 0.16609 E">
                                      <p:cBhvr>
                                        <p:cTn id="572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WordArt 4"/>
          <p:cNvSpPr txBox="1"/>
          <p:nvPr/>
        </p:nvSpPr>
        <p:spPr>
          <a:xfrm>
            <a:off x="1258920" y="260280"/>
            <a:ext cx="6222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prstDash val="sysDot"/>
                  <a:miter/>
                </a:ln>
                <a:solidFill>
                  <a:srgbClr val="cc0099"/>
                </a:solidFill>
                <a:latin typeface="Comic Sans MS"/>
              </a:rPr>
              <a:t>МЕТАБОЛИЗМ АЛКОГОЛЯ В КРОВИ.</a:t>
            </a:r>
            <a:endParaRPr b="1" lang="en-US" sz="2800" spc="1" strike="noStrike">
              <a:ln w="28440">
                <a:solidFill>
                  <a:srgbClr val="000000"/>
                </a:solidFill>
                <a:prstDash val="sysDot"/>
                <a:miter/>
              </a:ln>
              <a:solidFill>
                <a:srgbClr val="cc0099"/>
              </a:solidFill>
              <a:latin typeface="Comic Sans MS"/>
              <a:ea typeface="Comic Sans MS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179280" y="1341360"/>
            <a:ext cx="8964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ОЕ ВЕЩЕСТВО В ОРГАНИЗ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ЕРГАЕТСЯ ПРЕВРАЩЕНИЯ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ИЖАЕТСЯ ЕГО ТОКСИЧНОСТЬ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ДИТ ВЫДЕЛЕНИЕ МЕТАБОЛ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j0186004[1]"/>
          <p:cNvPicPr/>
          <p:nvPr/>
        </p:nvPicPr>
        <p:blipFill>
          <a:blip r:embed="rId1"/>
          <a:stretch/>
        </p:blipFill>
        <p:spPr>
          <a:xfrm>
            <a:off x="7451640" y="18900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9"/>
          <p:cNvSpPr/>
          <p:nvPr/>
        </p:nvSpPr>
        <p:spPr>
          <a:xfrm>
            <a:off x="539640" y="4797360"/>
            <a:ext cx="830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ЖЕЛУДКЕ НЕБОЛЬШАЯ ЧАСТЬ ЕГО ПОГЛОЩАЕТСЯ СЛИЗИСТОЙ ОБОЛОЧКОЙ, А ОСТАЛЬНАЯ БЫСТРО РАЗБАВЛЯЕТСЯ ЖЕЛУДОЧНЫМ С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503280" y="3214800"/>
            <a:ext cx="864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d7dff"/>
                </a:solidFill>
                <a:latin typeface="Arial"/>
              </a:rPr>
              <a:t>В ТОНКОМ КИШЕЧНИКЕ СПИРТ ВСАСЫВАЕТСЯ В КРОВЬ В НЕИЗМЕНЁННОМ ВИДЕ, ДАЛЕЕ С КРОВЬЮ ПОПАДАЕТ ВО ВСЕ ОРГАНЫ И ТК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d7dff"/>
                </a:solidFill>
                <a:latin typeface="Arial"/>
              </a:rPr>
              <a:t>(АЛКОГОЛЬ НЕ ЗАТРАГИВАЕТ ТОЛЬКО КОСТИ И ЖИРОВУЮ ТКА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d7d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7d7dff"/>
                </a:solidFill>
                <a:latin typeface="Arial"/>
              </a:rPr>
              <a:t>В НИХ МАЛОЕ СОДЕРЖАНИЕ ВОД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C:\Users\Дима\Desktop\жжжжжж.jpg"/>
          <p:cNvPicPr/>
          <p:nvPr/>
        </p:nvPicPr>
        <p:blipFill>
          <a:blip r:embed="rId1"/>
          <a:stretch/>
        </p:blipFill>
        <p:spPr>
          <a:xfrm>
            <a:off x="2124000" y="292428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528" name="Заголовок 1" descr=""/>
          <p:cNvPicPr/>
          <p:nvPr/>
        </p:nvPicPr>
        <p:blipFill>
          <a:blip r:embed="rId2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C:\Users\Дима\Desktop\иииииииииии.jpg"/>
          <p:cNvPicPr/>
          <p:nvPr/>
        </p:nvPicPr>
        <p:blipFill>
          <a:blip r:embed="rId3"/>
          <a:stretch/>
        </p:blipFill>
        <p:spPr>
          <a:xfrm>
            <a:off x="5643720" y="1857240"/>
            <a:ext cx="3095640" cy="31687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C:\Users\Дима\Desktop\нннннннн.jpg"/>
          <p:cNvPicPr/>
          <p:nvPr/>
        </p:nvPicPr>
        <p:blipFill>
          <a:blip r:embed="rId4"/>
          <a:stretch/>
        </p:blipFill>
        <p:spPr>
          <a:xfrm>
            <a:off x="214200" y="1857240"/>
            <a:ext cx="22399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j0410483[1]"/>
          <p:cNvPicPr/>
          <p:nvPr/>
        </p:nvPicPr>
        <p:blipFill>
          <a:blip r:embed="rId1"/>
          <a:stretch/>
        </p:blipFill>
        <p:spPr>
          <a:xfrm>
            <a:off x="179280" y="5734080"/>
            <a:ext cx="1001880" cy="9396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8"/>
          <p:cNvSpPr/>
          <p:nvPr/>
        </p:nvSpPr>
        <p:spPr>
          <a:xfrm>
            <a:off x="900000" y="177336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АЛКОГ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АРАБСКОГ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koh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ИЙ  ПОРОШ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179280" y="1916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808200" y="2081160"/>
            <a:ext cx="71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755640" y="2205000"/>
            <a:ext cx="81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«ЖИЗНЕННАЯ В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qua vita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СИЛЬНЕЙШЕЕ ЛЕКАРСТВЕННОЕ 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79280" y="2852640"/>
            <a:ext cx="873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в средние века называли этиловый спирт. Позднее название алкоголи закрепилось за всем класс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р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14"/>
          <p:cNvGraphicFramePr/>
          <p:nvPr/>
        </p:nvGraphicFramePr>
        <p:xfrm>
          <a:off x="250920" y="3716280"/>
          <a:ext cx="3600360" cy="3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3716280"/>
                    <a:ext cx="36003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15"/>
          <p:cNvGraphicFramePr/>
          <p:nvPr/>
        </p:nvGraphicFramePr>
        <p:xfrm>
          <a:off x="2916360" y="4724280"/>
          <a:ext cx="1871640" cy="112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4724280"/>
                    <a:ext cx="187164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16"/>
          <p:cNvGraphicFramePr/>
          <p:nvPr/>
        </p:nvGraphicFramePr>
        <p:xfrm>
          <a:off x="5796000" y="3500280"/>
          <a:ext cx="2881440" cy="1127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6000" y="3500280"/>
                    <a:ext cx="288144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 Box 17"/>
          <p:cNvSpPr/>
          <p:nvPr/>
        </p:nvSpPr>
        <p:spPr>
          <a:xfrm>
            <a:off x="755640" y="414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Н</a:t>
            </a: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2411280" y="59500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Н</a:t>
            </a: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ДИ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5940360" y="4941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ПАН</a:t>
            </a: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ТРИО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1,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>
            <a:hlinkClick r:id="rId8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7493"/>
                </a:moveTo>
                <a:lnTo>
                  <a:pt x="9305" y="7493"/>
                </a:lnTo>
                <a:lnTo>
                  <a:pt x="9305" y="12828"/>
                </a:lnTo>
                <a:cubicBezTo>
                  <a:pt x="9305" y="13751"/>
                  <a:pt x="10106" y="14482"/>
                  <a:pt x="11141" y="14482"/>
                </a:cubicBezTo>
                <a:lnTo>
                  <a:pt x="12804" y="14482"/>
                </a:lnTo>
                <a:cubicBezTo>
                  <a:pt x="13840" y="14482"/>
                  <a:pt x="14640" y="13751"/>
                  <a:pt x="14640" y="12828"/>
                </a:cubicBezTo>
                <a:lnTo>
                  <a:pt x="14640" y="7493"/>
                </a:lnTo>
                <a:lnTo>
                  <a:pt x="12804" y="7493"/>
                </a:lnTo>
                <a:lnTo>
                  <a:pt x="16311" y="3985"/>
                </a:lnTo>
                <a:lnTo>
                  <a:pt x="19984" y="7493"/>
                </a:lnTo>
                <a:lnTo>
                  <a:pt x="18148" y="7493"/>
                </a:lnTo>
                <a:lnTo>
                  <a:pt x="18148" y="12828"/>
                </a:lnTo>
                <a:cubicBezTo>
                  <a:pt x="18148" y="15596"/>
                  <a:pt x="15572" y="18155"/>
                  <a:pt x="12804" y="18155"/>
                </a:cubicBezTo>
                <a:lnTo>
                  <a:pt x="11141" y="18155"/>
                </a:lnTo>
                <a:cubicBezTo>
                  <a:pt x="8374" y="18155"/>
                  <a:pt x="5797" y="15596"/>
                  <a:pt x="5797" y="12828"/>
                </a:cubicBez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395280" y="8571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ОГОЛЬ ЦИРКУЛИРУЕТ С КРОВЬЮ ПО ОРГАНИЗМУ, МЕДЛЕННО РАСЩЕПЛЯЯСЬ В 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Ь МЕТАБОЛИТОВ ВЫДЕЛЯЕТСЯ ЧЕРЕЗ ПОЧКИ И ЛЁГКИЕ, НЕБОЛЬШАЯ ЧАСТЬ ЧЕРЕЗ КОЖУ С П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1619280" y="24210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АЛКОГОЛЬ НАРУШАЕТ СТРУКТУРУ КЛЕТОК ПЕЧЕНИ, ПРИВОДЯ К ПЕРЕРОЖДЕНИЮ ЕЁ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7" descr="j0186004[1]"/>
          <p:cNvPicPr/>
          <p:nvPr/>
        </p:nvPicPr>
        <p:blipFill>
          <a:blip r:embed="rId1"/>
          <a:stretch/>
        </p:blipFill>
        <p:spPr>
          <a:xfrm>
            <a:off x="7812000" y="189000"/>
            <a:ext cx="1157400" cy="12524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395280" y="3429000"/>
            <a:ext cx="748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СИСТЕМАТИЧЕСКИХ УПОТРЕБЛЕНИЯХ СПИРТНЫХ НАПИТКОВ ЖИРОВЫЕ ИЗМЕНЕНИЯ В КЛЕТКАХ ПЕЧЕНИ ПРИВОДЯТ К ОМЕРТВЛЕНИЮ ПЕЧЁНОЧНОЙ ТКАНИ – РАЗВИВАЕТСЯ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ЦИРРОЗ ПЕЧЕНИ</a:t>
            </a:r>
            <a:r>
              <a:rPr b="1" lang="ru-RU" sz="2000" spc="-1" strike="noStrike">
                <a:solidFill>
                  <a:srgbClr val="def5f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1714680" y="4929120"/>
            <a:ext cx="3786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ПОРАЖЕНИЕ КЛЕТОК ПЕЧЕНИ ПРИВОДИТ К НАРУШЕНИЮ БЕЛКОВОГО И УГЛЕРОДНОГО ОБМЕНА, СИНТЕЗА ВИТАМИНОВ И ФЕР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0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5" descr="352277_3"/>
          <p:cNvPicPr/>
          <p:nvPr/>
        </p:nvPicPr>
        <p:blipFill>
          <a:blip r:embed="rId2"/>
          <a:stretch/>
        </p:blipFill>
        <p:spPr>
          <a:xfrm>
            <a:off x="5643720" y="4572000"/>
            <a:ext cx="3238200" cy="17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07" dur="100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animClr clrSpc="rgb">
                                      <p:cBhvr>
                                        <p:cTn id="608" dur="100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set>
                                      <p:cBhvr>
                                        <p:cTn id="609" dur="100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4"/>
          <p:cNvSpPr/>
          <p:nvPr/>
        </p:nvSpPr>
        <p:spPr>
          <a:xfrm>
            <a:off x="2916360" y="0"/>
            <a:ext cx="3960720" cy="2592360"/>
          </a:xfrm>
          <a:prstGeom prst="diamond">
            <a:avLst/>
          </a:pr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ЗА 1 ЧАС В СРЕД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АЗРУШАЕТСЯ 0,1г СПИ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НА 1кг ВЕСА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 rot="8797800">
            <a:off x="2555280" y="1988640"/>
            <a:ext cx="1191960" cy="486000"/>
          </a:xfrm>
          <a:custGeom>
            <a:avLst/>
            <a:gdLst>
              <a:gd name="textAreaLeft" fmla="*/ 186120 w 1191960"/>
              <a:gd name="textAreaRight" fmla="*/ 1043280 w 11919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179280" y="2565360"/>
            <a:ext cx="403236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АЦЕТАЛЬДЕГИД – </a:t>
            </a: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ГЛАВНЫЙ ПРОДУКТ РАСПАДА ЭТАН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ЭТО ВЕЩЕСТВО – ТОКСИЧЕСКОЕ СОЕДИНЕНИЕ ( </a:t>
            </a:r>
            <a:r>
              <a:rPr b="1" lang="ru-RU" sz="1800" spc="-1" strike="noStrike">
                <a:solidFill>
                  <a:srgbClr val="464646"/>
                </a:solidFill>
                <a:latin typeface="Arial"/>
              </a:rPr>
              <a:t>ВСТУПАЕТ В РЕАКЦИИ СО МНОГИМИ БИОЛОГИЧЕСКИ АКТИВНЫМИ ВЕЩЕСТВАМИ</a:t>
            </a: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3348000" y="3645000"/>
            <a:ext cx="1152720" cy="485640"/>
          </a:xfrm>
          <a:custGeom>
            <a:avLst/>
            <a:gdLst>
              <a:gd name="textAreaLeft" fmla="*/ 180000 w 1152720"/>
              <a:gd name="textAreaRight" fmla="*/ 1032120 w 1152720"/>
              <a:gd name="textAreaTop" fmla="*/ 135000 h 485640"/>
              <a:gd name="textAreaBottom" fmla="*/ 351000 h 485640"/>
            </a:gdLst>
            <a:ahLst/>
            <a:rect l="textAreaLeft" t="textAreaTop" r="textAreaRight" b="textAreaBottom"/>
            <a:pathLst>
              <a:path w="21600" h="21600">
                <a:moveTo>
                  <a:pt x="16507" y="0"/>
                </a:moveTo>
                <a:lnTo>
                  <a:pt x="16507" y="6000"/>
                </a:lnTo>
                <a:lnTo>
                  <a:pt x="3375" y="6000"/>
                </a:lnTo>
                <a:lnTo>
                  <a:pt x="3375" y="15600"/>
                </a:lnTo>
                <a:lnTo>
                  <a:pt x="16507" y="15600"/>
                </a:lnTo>
                <a:lnTo>
                  <a:pt x="16507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6000"/>
                </a:moveTo>
                <a:lnTo>
                  <a:pt x="1350" y="15600"/>
                </a:lnTo>
                <a:lnTo>
                  <a:pt x="2700" y="15600"/>
                </a:lnTo>
                <a:lnTo>
                  <a:pt x="2700" y="6000"/>
                </a:lnTo>
                <a:close/>
              </a:path>
              <a:path w="21600" h="21600">
                <a:moveTo>
                  <a:pt x="0" y="6000"/>
                </a:moveTo>
                <a:lnTo>
                  <a:pt x="0" y="15600"/>
                </a:lnTo>
                <a:lnTo>
                  <a:pt x="675" y="15600"/>
                </a:lnTo>
                <a:lnTo>
                  <a:pt x="675" y="60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4572000" y="2708280"/>
            <a:ext cx="4572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ДАЛЬНЕЙШИЙ РАСПАД ПРИВОДИТ К ОБРАЗОВАНИЮ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УКСУСНОЙ КИСЛОТЫ</a:t>
            </a: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464646"/>
                </a:solidFill>
                <a:latin typeface="Arial"/>
              </a:rPr>
              <a:t>ДАЛЕЕ РАЗРУШАЕТСЯ ВО ВСЕХ КЛЕТКАХ ОРГАНИЗМА, ОБРАЗУ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ВОДУ И УГЛЕКИСЛЫЙ ГАЗ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0" y="5500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ВСЕ ПРОДУКТЫ РАСПАДА АЛКОГОЛЯ – ЯДОВИ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12"/>
          <p:cNvGraphicFramePr/>
          <p:nvPr/>
        </p:nvGraphicFramePr>
        <p:xfrm>
          <a:off x="468360" y="260280"/>
          <a:ext cx="143964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1439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13"/>
          <p:cNvGraphicFramePr/>
          <p:nvPr/>
        </p:nvGraphicFramePr>
        <p:xfrm>
          <a:off x="179280" y="620640"/>
          <a:ext cx="2000520" cy="12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620640"/>
                    <a:ext cx="20005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14"/>
          <p:cNvGraphicFramePr/>
          <p:nvPr/>
        </p:nvGraphicFramePr>
        <p:xfrm>
          <a:off x="6732720" y="66600"/>
          <a:ext cx="2130120" cy="12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66600"/>
                    <a:ext cx="21301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15"/>
          <p:cNvGraphicFramePr/>
          <p:nvPr/>
        </p:nvGraphicFramePr>
        <p:xfrm>
          <a:off x="7093080" y="1228680"/>
          <a:ext cx="86364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1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93080" y="1228680"/>
                    <a:ext cx="86364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16"/>
          <p:cNvGraphicFramePr/>
          <p:nvPr/>
        </p:nvGraphicFramePr>
        <p:xfrm>
          <a:off x="7885080" y="1773360"/>
          <a:ext cx="936720" cy="509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3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85080" y="1773360"/>
                    <a:ext cx="9367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AutoShape 17">
            <a:hlinkClick r:id="" action="ppaction://hlinkshowjump?jump=nextslide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49" nodeType="afterEffect" fill="hold" presetClass="entr" presetID="18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9500"/>
                            </p:stCondLst>
                            <p:childTnLst>
                              <p:par>
                                <p:cTn id="6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150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Object 4"/>
          <p:cNvGraphicFramePr/>
          <p:nvPr/>
        </p:nvGraphicFramePr>
        <p:xfrm>
          <a:off x="3017880" y="1600200"/>
          <a:ext cx="2803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7880" y="1600200"/>
                    <a:ext cx="2803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7" name="Rectangle 5" descr=""/>
          <p:cNvPicPr/>
          <p:nvPr/>
        </p:nvPicPr>
        <p:blipFill>
          <a:blip r:embed="rId3"/>
          <a:stretch/>
        </p:blipFill>
        <p:spPr>
          <a:xfrm>
            <a:off x="3273480" y="237960"/>
            <a:ext cx="3060720" cy="131616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7"/>
          <p:cNvSpPr/>
          <p:nvPr/>
        </p:nvSpPr>
        <p:spPr>
          <a:xfrm>
            <a:off x="111240" y="304920"/>
            <a:ext cx="30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8b8"/>
                </a:solidFill>
                <a:latin typeface="Cambria"/>
              </a:rPr>
              <a:t>Повреждение печ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6930720" y="30492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8b8"/>
                </a:solidFill>
                <a:latin typeface="Cambria"/>
              </a:rPr>
              <a:t>Цирроз печ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843280" y="4076640"/>
            <a:ext cx="37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08b8"/>
                </a:solidFill>
                <a:latin typeface="Cambria"/>
              </a:rPr>
              <a:t>Мутации и уродства эмбри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1" descr="1260181925_1800094_48f13d1a"/>
          <p:cNvPicPr/>
          <p:nvPr/>
        </p:nvPicPr>
        <p:blipFill>
          <a:blip r:embed="rId4"/>
          <a:srcRect l="0" t="0" r="5564" b="10658"/>
          <a:stretch/>
        </p:blipFill>
        <p:spPr>
          <a:xfrm>
            <a:off x="6156360" y="3124080"/>
            <a:ext cx="283536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2" descr="1260182004_1800093_68634151"/>
          <p:cNvPicPr/>
          <p:nvPr/>
        </p:nvPicPr>
        <p:blipFill>
          <a:blip r:embed="rId5"/>
          <a:srcRect l="15635" t="0" r="0" b="16445"/>
          <a:stretch/>
        </p:blipFill>
        <p:spPr>
          <a:xfrm>
            <a:off x="228600" y="2971800"/>
            <a:ext cx="2614680" cy="3581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3" descr="38623"/>
          <p:cNvPicPr/>
          <p:nvPr/>
        </p:nvPicPr>
        <p:blipFill>
          <a:blip r:embed="rId6"/>
          <a:stretch/>
        </p:blipFill>
        <p:spPr>
          <a:xfrm>
            <a:off x="7086600" y="762120"/>
            <a:ext cx="1674720" cy="22096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4" descr="706187_1100672492"/>
          <p:cNvPicPr/>
          <p:nvPr/>
        </p:nvPicPr>
        <p:blipFill>
          <a:blip r:embed="rId7"/>
          <a:stretch/>
        </p:blipFill>
        <p:spPr>
          <a:xfrm>
            <a:off x="380880" y="91440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179280" y="404640"/>
            <a:ext cx="7596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ВЛИЯНИЕМ СИСТЕМА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ТРЕБЛЕНИЯ АЛКОГОЛЯ ПРОИС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ЧИТЕЛЬНЫЕ НАРУШЕНИЯ В КО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ЛОВНОГО   МОЗ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ИЛИВАЮТСЯ АТЕРОСКЛЕРОТИЧЕСКИЕ ПРОЦЕ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f5fa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def5fa"/>
                </a:solidFill>
                <a:latin typeface="Arial"/>
                <a:ea typeface="Arial"/>
              </a:rPr>
              <a:t>=&gt;</a:t>
            </a:r>
            <a:r>
              <a:rPr b="1" lang="ru-RU" sz="2000" spc="-1" strike="noStrike">
                <a:solidFill>
                  <a:srgbClr val="def5f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ТРОМБОЗ ИЛИ ИНС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059280" y="3141720"/>
            <a:ext cx="6084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РАЖЕНИЕ СОСУДОВ  СВЯЗЫВАЮТ С РАЗВИТИЕМ В НИХ СКЛЕ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ЭЛАСТИЧНАЯ ТКАНЬ ИХ СТЕНОК ЗАМЕЩАЕТСЯ ГРУБОЙ СОЕДИНИТЕЛЬНОЙ ТКАНЬЮ, В СТЕНКАХ ОТКЛАДЫВАЕТСЯ ХОЛЕСТЕР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1332000" y="4941720"/>
            <a:ext cx="75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ef5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f5f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ОГИЕ СОСУДЫ РАСШИРЯ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 У ЗЛОУПОТРЕБЛЯЮЩИХ АЛКОГОЛЕМ ЛИЦО НЕРЕДКО БЫВАЕТ КРАСНЫМ, А ПОРОЙ И СИНЮШНЫМ – ИЗ-ЗА СТОЙКОГО РАСШИРЕНИЯ ВЕН НОСА И ЩЕК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0">
            <a:hlinkClick r:id="" action="ppaction://hlinkshowjump?jump=nextslide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ed3eed822a01"/>
          <p:cNvPicPr/>
          <p:nvPr/>
        </p:nvPicPr>
        <p:blipFill>
          <a:blip r:embed="rId1"/>
          <a:stretch/>
        </p:blipFill>
        <p:spPr>
          <a:xfrm>
            <a:off x="571680" y="2714760"/>
            <a:ext cx="2428560" cy="2071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1242901825_klmozga"/>
          <p:cNvPicPr/>
          <p:nvPr/>
        </p:nvPicPr>
        <p:blipFill>
          <a:blip r:embed="rId2"/>
          <a:stretch/>
        </p:blipFill>
        <p:spPr>
          <a:xfrm>
            <a:off x="6715080" y="500040"/>
            <a:ext cx="21240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16" presetSubtype="3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8500"/>
                            </p:stCondLst>
                            <p:childTnLst>
                              <p:par>
                                <p:cTn id="718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j0234593[1]"/>
          <p:cNvPicPr/>
          <p:nvPr/>
        </p:nvPicPr>
        <p:blipFill>
          <a:blip r:embed="rId1"/>
          <a:stretch/>
        </p:blipFill>
        <p:spPr>
          <a:xfrm>
            <a:off x="7667640" y="404640"/>
            <a:ext cx="1111320" cy="10954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5"/>
          <p:cNvSpPr/>
          <p:nvPr/>
        </p:nvSpPr>
        <p:spPr>
          <a:xfrm>
            <a:off x="324000" y="40464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ЛИТЕЛЬНОЕ УПОТРЕБЛЕНИЕ АЛКОГОЛЯ ПРИВОДИТ К ПЕРЕРОЖДЕНИЮ СЕРДЕЧНОЙ МЫШЦЫ ИЗ-ЗА НАРУШЕНИЯ ОБМЕННЫХ 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179280" y="206064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МЫШЕЧНЫЕ ВОЛОКНА ЧАСТИЧНО ЗАМЕЩАЮТСЯ ЖИРОВОЙ И СОЕДИНИТЕЛЬНОЙ ТКА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8"/>
          <p:cNvSpPr/>
          <p:nvPr/>
        </p:nvSpPr>
        <p:spPr>
          <a:xfrm>
            <a:off x="3708360" y="2205000"/>
            <a:ext cx="1295280" cy="48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4932360" y="1989000"/>
            <a:ext cx="401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НИЖЕНИЕ СОКРАТИТЕЛЬНОЙ СПОСОБНОСТИ СЕРД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1"/>
          <p:cNvSpPr/>
          <p:nvPr/>
        </p:nvSpPr>
        <p:spPr>
          <a:xfrm rot="21159000">
            <a:off x="8244000" y="2205000"/>
            <a:ext cx="733320" cy="1440000"/>
          </a:xfrm>
          <a:custGeom>
            <a:avLst/>
            <a:gdLst>
              <a:gd name="textAreaLeft" fmla="*/ 98280 w 733320"/>
              <a:gd name="textAreaRight" fmla="*/ 635040 w 733320"/>
              <a:gd name="textAreaTop" fmla="*/ 249480 h 1440000"/>
              <a:gd name="textAreaBottom" fmla="*/ 11221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87" stAng="-5400000" swAng="5400000"/>
                <a:lnTo>
                  <a:pt x="21600" y="13089"/>
                </a:lnTo>
                <a:arcTo wR="21600" hR="7487" stAng="0" swAng="2768317"/>
                <a:lnTo>
                  <a:pt x="6826" y="21216"/>
                </a:lnTo>
                <a:lnTo>
                  <a:pt x="0" y="17774"/>
                </a:lnTo>
                <a:lnTo>
                  <a:pt x="6826" y="13564"/>
                </a:lnTo>
                <a:lnTo>
                  <a:pt x="6826" y="14589"/>
                </a:lnTo>
                <a:arcTo wR="21600" hR="7487" stAng="2768317" swAng="-2290708"/>
                <a:lnTo>
                  <a:pt x="20031" y="10288"/>
                </a:lnTo>
                <a:arcTo wR="21600" hR="7487" stAng="-477609" swAng="-4922391"/>
                <a:close/>
              </a:path>
              <a:path fill="darkenLess" w="21600" h="21600">
                <a:moveTo>
                  <a:pt x="0" y="0"/>
                </a:moveTo>
                <a:arcTo wR="21600" hR="7487" stAng="-5400000" swAng="5400000"/>
                <a:lnTo>
                  <a:pt x="21600" y="13089"/>
                </a:lnTo>
                <a:arcTo wR="21600" hR="7487" stAng="0" swAng="-477609"/>
                <a:lnTo>
                  <a:pt x="20031" y="10288"/>
                </a:lnTo>
                <a:arcTo wR="21600" hR="7487" stAng="-477609" swAng="-4922391"/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4788000" y="373680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УЧАЩЁННОЕ СЕРДЦЕБИ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ДЫШКА,СЛАБ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250920" y="50324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f5fa"/>
                </a:solidFill>
                <a:latin typeface="Comic Sans MS"/>
              </a:rPr>
              <a:t>СЕРДЕЧНО-СОСУДИСТЫЕ НАРУШЕНИЯ ПРИ АЛКОГОЛИЗМЕ СТОЛЬ ВЕЛИКИ, ЧТО МОГУТ БЫТЬ ПРИЧИНОЙ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4"/>
          <p:cNvGraphicFramePr/>
          <p:nvPr/>
        </p:nvGraphicFramePr>
        <p:xfrm>
          <a:off x="1332000" y="3284640"/>
          <a:ext cx="122220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0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3284640"/>
                    <a:ext cx="12222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AutoShape 1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7493"/>
                </a:moveTo>
                <a:lnTo>
                  <a:pt x="9305" y="7493"/>
                </a:lnTo>
                <a:lnTo>
                  <a:pt x="9305" y="12828"/>
                </a:lnTo>
                <a:cubicBezTo>
                  <a:pt x="9305" y="13751"/>
                  <a:pt x="10106" y="14482"/>
                  <a:pt x="11141" y="14482"/>
                </a:cubicBezTo>
                <a:lnTo>
                  <a:pt x="12804" y="14482"/>
                </a:lnTo>
                <a:cubicBezTo>
                  <a:pt x="13840" y="14482"/>
                  <a:pt x="14640" y="13751"/>
                  <a:pt x="14640" y="12828"/>
                </a:cubicBezTo>
                <a:lnTo>
                  <a:pt x="14640" y="7493"/>
                </a:lnTo>
                <a:lnTo>
                  <a:pt x="12804" y="7493"/>
                </a:lnTo>
                <a:lnTo>
                  <a:pt x="16311" y="3985"/>
                </a:lnTo>
                <a:lnTo>
                  <a:pt x="19984" y="7493"/>
                </a:lnTo>
                <a:lnTo>
                  <a:pt x="18148" y="7493"/>
                </a:lnTo>
                <a:lnTo>
                  <a:pt x="18148" y="12828"/>
                </a:lnTo>
                <a:cubicBezTo>
                  <a:pt x="18148" y="15596"/>
                  <a:pt x="15572" y="18155"/>
                  <a:pt x="12804" y="18155"/>
                </a:cubicBezTo>
                <a:lnTo>
                  <a:pt x="11141" y="18155"/>
                </a:lnTo>
                <a:cubicBezTo>
                  <a:pt x="8374" y="18155"/>
                  <a:pt x="5797" y="15596"/>
                  <a:pt x="5797" y="12828"/>
                </a:cubicBez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0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000"/>
                            </p:stCondLst>
                            <p:childTnLst>
                              <p:par>
                                <p:cTn id="7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2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7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Rectangle 2" descr=""/>
          <p:cNvPicPr/>
          <p:nvPr/>
        </p:nvPicPr>
        <p:blipFill>
          <a:blip r:embed="rId1"/>
          <a:stretch/>
        </p:blipFill>
        <p:spPr>
          <a:xfrm>
            <a:off x="957240" y="-30240"/>
            <a:ext cx="6291360" cy="9511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1164960" y="5943600"/>
            <a:ext cx="68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то пива пьет больше, у того живот тол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6929280" y="1447920"/>
            <a:ext cx="885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Оожоои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ерд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2" descr="AG00624_"/>
          <p:cNvPicPr/>
          <p:nvPr/>
        </p:nvPicPr>
        <p:blipFill>
          <a:blip r:embed="rId2"/>
          <a:stretch/>
        </p:blipFill>
        <p:spPr>
          <a:xfrm>
            <a:off x="3200400" y="2895480"/>
            <a:ext cx="2219400" cy="23623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4" descr="001"/>
          <p:cNvPicPr/>
          <p:nvPr/>
        </p:nvPicPr>
        <p:blipFill>
          <a:blip r:embed="rId3"/>
          <a:stretch/>
        </p:blipFill>
        <p:spPr>
          <a:xfrm>
            <a:off x="5715000" y="3048120"/>
            <a:ext cx="2786040" cy="2800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5" descr="1241535762_pivo4"/>
          <p:cNvPicPr/>
          <p:nvPr/>
        </p:nvPicPr>
        <p:blipFill>
          <a:blip r:embed="rId4"/>
          <a:stretch/>
        </p:blipFill>
        <p:spPr>
          <a:xfrm>
            <a:off x="928800" y="2514600"/>
            <a:ext cx="2286000" cy="3505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6" descr="67942"/>
          <p:cNvPicPr/>
          <p:nvPr/>
        </p:nvPicPr>
        <p:blipFill>
          <a:blip r:embed="rId5"/>
          <a:stretch/>
        </p:blipFill>
        <p:spPr>
          <a:xfrm>
            <a:off x="2438280" y="990720"/>
            <a:ext cx="3835440" cy="138420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8"/>
          <p:cNvSpPr/>
          <p:nvPr/>
        </p:nvSpPr>
        <p:spPr>
          <a:xfrm>
            <a:off x="7055640" y="6568920"/>
            <a:ext cx="20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БОУ «Обоянская СОШ №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5"/>
          <p:cNvSpPr/>
          <p:nvPr/>
        </p:nvSpPr>
        <p:spPr>
          <a:xfrm>
            <a:off x="395280" y="1197000"/>
            <a:ext cx="84978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УТНОЕ УДОВОЛЬ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ОЕ ДАЁТ АЛКОГОЛЬ, ДАЛЕКО НЕ ИСКУПАЕТ ТОЙ МАССЫ ЗАБОТ И ГОРЯ, КОТОРЫЕ НЕСЁТ ЛЮДЯМ, ТОЙ ДЛИННОЙ ВЕРЕНИЦЫ НЕСЧАСТ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 УЖАСНЫХ ОПУСТОШЕНИЙ, КОТОРЫЕ ВНОСИТ ЗЛОУПОТРЕБЛЕНИЕ ИМ В ЖИЗНЬ СОВРЕМЕНН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                                  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КАНЕЛЬ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AG00317_"/>
          <p:cNvPicPr/>
          <p:nvPr/>
        </p:nvPicPr>
        <p:blipFill>
          <a:blip r:embed="rId1"/>
          <a:stretch/>
        </p:blipFill>
        <p:spPr>
          <a:xfrm>
            <a:off x="250920" y="5589720"/>
            <a:ext cx="782640" cy="100620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7">
            <a:hlinkClick r:id="" action="ppaction://hlinkshowjump?jump=nextslide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4"/>
          <p:cNvSpPr/>
          <p:nvPr/>
        </p:nvSpPr>
        <p:spPr>
          <a:xfrm>
            <a:off x="684360" y="206064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ОТ САМОГО ЧЕЛОВЕКА ЗАВИСИТ: ВЫБИРАЕТ ЛИ ОН ПУТЬ ПЬЯНСТВА, А ЗАТЕМ И АЛКОГОЛИЗМА, ТО ЕСТЬ БОЛЕЗНИ И ДОРОГИ В НИКУДА, ИЛИ ОН СТРЕМИТСЯ К ЗДОРОВОЙ, АКТИВНОЙ, ИНТЕРЕС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2"/>
          <p:cNvSpPr/>
          <p:nvPr/>
        </p:nvSpPr>
        <p:spPr>
          <a:xfrm>
            <a:off x="8677440" y="6462720"/>
            <a:ext cx="466560" cy="395280"/>
          </a:xfrm>
          <a:custGeom>
            <a:avLst/>
            <a:gdLst>
              <a:gd name="textAreaLeft" fmla="*/ 25560 w 466560"/>
              <a:gd name="textAreaRight" fmla="*/ 441000 w 4665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492" h="21600">
                <a:moveTo>
                  <a:pt x="0" y="0"/>
                </a:moveTo>
                <a:lnTo>
                  <a:pt x="25492" y="0"/>
                </a:lnTo>
                <a:lnTo>
                  <a:pt x="25492" y="21600"/>
                </a:lnTo>
                <a:lnTo>
                  <a:pt x="0" y="21600"/>
                </a:lnTo>
                <a:close/>
              </a:path>
              <a:path fill="lightenLess" w="25492" h="21600">
                <a:moveTo>
                  <a:pt x="0" y="0"/>
                </a:moveTo>
                <a:lnTo>
                  <a:pt x="25492" y="0"/>
                </a:lnTo>
                <a:lnTo>
                  <a:pt x="24092" y="1400"/>
                </a:lnTo>
                <a:lnTo>
                  <a:pt x="1400" y="1400"/>
                </a:lnTo>
                <a:close/>
              </a:path>
              <a:path fill="darken" w="25492" h="21600">
                <a:moveTo>
                  <a:pt x="25492" y="0"/>
                </a:moveTo>
                <a:lnTo>
                  <a:pt x="25492" y="21600"/>
                </a:lnTo>
                <a:lnTo>
                  <a:pt x="24092" y="20200"/>
                </a:lnTo>
                <a:lnTo>
                  <a:pt x="24092" y="1400"/>
                </a:lnTo>
                <a:close/>
              </a:path>
              <a:path fill="darkenLess" w="25492" h="21600">
                <a:moveTo>
                  <a:pt x="25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2" y="20200"/>
                </a:lnTo>
                <a:close/>
              </a:path>
              <a:path fill="lighten" w="25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2" h="21600">
                <a:moveTo>
                  <a:pt x="12746" y="3837"/>
                </a:moveTo>
                <a:lnTo>
                  <a:pt x="15322" y="6448"/>
                </a:lnTo>
                <a:lnTo>
                  <a:pt x="15322" y="4707"/>
                </a:lnTo>
                <a:lnTo>
                  <a:pt x="17098" y="4707"/>
                </a:lnTo>
                <a:lnTo>
                  <a:pt x="17098" y="8224"/>
                </a:lnTo>
                <a:lnTo>
                  <a:pt x="19709" y="10800"/>
                </a:lnTo>
                <a:lnTo>
                  <a:pt x="18055" y="10800"/>
                </a:lnTo>
                <a:lnTo>
                  <a:pt x="18055" y="17989"/>
                </a:lnTo>
                <a:lnTo>
                  <a:pt x="7437" y="17989"/>
                </a:lnTo>
                <a:lnTo>
                  <a:pt x="7437" y="10800"/>
                </a:lnTo>
                <a:lnTo>
                  <a:pt x="5783" y="10800"/>
                </a:lnTo>
                <a:close/>
              </a:path>
              <a:path fill="darkenLess" w="25492" h="21600">
                <a:moveTo>
                  <a:pt x="15322" y="6448"/>
                </a:moveTo>
                <a:lnTo>
                  <a:pt x="15322" y="4707"/>
                </a:lnTo>
                <a:lnTo>
                  <a:pt x="17098" y="4707"/>
                </a:lnTo>
                <a:lnTo>
                  <a:pt x="17098" y="8224"/>
                </a:lnTo>
                <a:close/>
              </a:path>
              <a:path fill="darkenLess" w="25492" h="21600">
                <a:moveTo>
                  <a:pt x="11823" y="14299"/>
                </a:moveTo>
                <a:lnTo>
                  <a:pt x="13668" y="14299"/>
                </a:lnTo>
                <a:lnTo>
                  <a:pt x="13668" y="17989"/>
                </a:lnTo>
                <a:lnTo>
                  <a:pt x="18055" y="17989"/>
                </a:lnTo>
                <a:lnTo>
                  <a:pt x="18055" y="10800"/>
                </a:lnTo>
                <a:lnTo>
                  <a:pt x="7437" y="10800"/>
                </a:lnTo>
                <a:lnTo>
                  <a:pt x="7437" y="17989"/>
                </a:lnTo>
                <a:lnTo>
                  <a:pt x="11823" y="17989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3" descr=""/>
          <p:cNvPicPr/>
          <p:nvPr/>
        </p:nvPicPr>
        <p:blipFill>
          <a:blip r:embed="rId1"/>
          <a:stretch/>
        </p:blipFill>
        <p:spPr>
          <a:xfrm>
            <a:off x="324000" y="472428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4" descr=""/>
          <p:cNvPicPr/>
          <p:nvPr/>
        </p:nvPicPr>
        <p:blipFill>
          <a:blip r:embed="rId2"/>
          <a:stretch/>
        </p:blipFill>
        <p:spPr>
          <a:xfrm>
            <a:off x="6948360" y="4581360"/>
            <a:ext cx="1820880" cy="2116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5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1944720" cy="1714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6" descr=""/>
          <p:cNvPicPr/>
          <p:nvPr/>
        </p:nvPicPr>
        <p:blipFill>
          <a:blip r:embed="rId4"/>
          <a:stretch/>
        </p:blipFill>
        <p:spPr>
          <a:xfrm>
            <a:off x="3348000" y="404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7" descr=""/>
          <p:cNvPicPr/>
          <p:nvPr/>
        </p:nvPicPr>
        <p:blipFill>
          <a:blip r:embed="rId5"/>
          <a:stretch/>
        </p:blipFill>
        <p:spPr>
          <a:xfrm>
            <a:off x="7439040" y="0"/>
            <a:ext cx="1704960" cy="21589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9" descr=""/>
          <p:cNvPicPr/>
          <p:nvPr/>
        </p:nvPicPr>
        <p:blipFill>
          <a:blip r:embed="rId6"/>
          <a:stretch/>
        </p:blipFill>
        <p:spPr>
          <a:xfrm>
            <a:off x="3564000" y="4941720"/>
            <a:ext cx="216036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Object 7"/>
          <p:cNvGraphicFramePr/>
          <p:nvPr/>
        </p:nvGraphicFramePr>
        <p:xfrm>
          <a:off x="6084720" y="333360"/>
          <a:ext cx="172728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333360"/>
                    <a:ext cx="172728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AutoShape 10"/>
          <p:cNvSpPr/>
          <p:nvPr/>
        </p:nvSpPr>
        <p:spPr>
          <a:xfrm>
            <a:off x="395280" y="33336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ТОРИЯ ЭТИЛОВОГО СПИРТА ТЕРЯЕТСЯ  В ГЛУБИНЕ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250920" y="2060640"/>
            <a:ext cx="85899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 опьяняющих свойствах спиртных напитков люди узнали не менее чем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000 лет до нашей эр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 появлением керамической посуды, давшей возможность изготовления алкогольных напитков из мёда, плодовых соков и дикорастущего виногр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5" descr="j0410809[1]"/>
          <p:cNvPicPr/>
          <p:nvPr/>
        </p:nvPicPr>
        <p:blipFill>
          <a:blip r:embed="rId3"/>
          <a:stretch/>
        </p:blipFill>
        <p:spPr>
          <a:xfrm>
            <a:off x="3995640" y="4916520"/>
            <a:ext cx="223200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6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4"/>
          <p:cNvGraphicFramePr/>
          <p:nvPr/>
        </p:nvGraphicFramePr>
        <p:xfrm>
          <a:off x="7596360" y="0"/>
          <a:ext cx="1277640" cy="26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0"/>
                    <a:ext cx="127764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6786720" y="5143680"/>
          <a:ext cx="1299960" cy="14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5143680"/>
                    <a:ext cx="12999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Text Box 7"/>
          <p:cNvSpPr/>
          <p:nvPr/>
        </p:nvSpPr>
        <p:spPr>
          <a:xfrm>
            <a:off x="324000" y="476280"/>
            <a:ext cx="73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Известный путешественник, Н.Н.Миклухо-Маклай наблюдал папуасов Новой Гвинеи, не умевших ещё добывать огонь, но знавших уже приёмы приготовления хмельных напи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755640" y="501336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66"/>
                </a:solidFill>
                <a:latin typeface="Arial"/>
              </a:rPr>
              <a:t>Чистый спирт начали получать в 6-7 веках арабы и назвали его « аль коголь 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66"/>
                </a:solidFill>
                <a:latin typeface="Arial"/>
              </a:rPr>
              <a:t>что означает « одурманивающий 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6039000" y="2643120"/>
            <a:ext cx="3105000" cy="2076480"/>
          </a:xfrm>
          <a:prstGeom prst="cloudCallout">
            <a:avLst>
              <a:gd name="adj1" fmla="val -3180"/>
              <a:gd name="adj2" fmla="val 718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бутылку водки изготовил араб Рагез в 860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468360" y="2060640"/>
            <a:ext cx="575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В Западной Европе вперв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чудодейственный эликсир, делающий                                                                                                                                                                                                                                       старца - молод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утомлённого - бодр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                    </a:t>
            </a: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тоскующего – весёлым</a:t>
            </a:r>
            <a:r>
              <a:rPr b="1" i="1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»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                           </a:t>
            </a: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получил итальянский монах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                                   </a:t>
            </a:r>
            <a:r>
              <a:rPr b="1" i="1" lang="ru-RU" sz="1800" spc="-1" strike="noStrike">
                <a:solidFill>
                  <a:srgbClr val="5f5f5f"/>
                </a:solidFill>
                <a:latin typeface="Arial"/>
              </a:rPr>
              <a:t>алхимик  Валенти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>
            <a:hlinkClick r:id="rId5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7493"/>
                </a:moveTo>
                <a:lnTo>
                  <a:pt x="9305" y="7493"/>
                </a:lnTo>
                <a:lnTo>
                  <a:pt x="9305" y="12828"/>
                </a:lnTo>
                <a:cubicBezTo>
                  <a:pt x="9305" y="13751"/>
                  <a:pt x="10106" y="14482"/>
                  <a:pt x="11141" y="14482"/>
                </a:cubicBezTo>
                <a:lnTo>
                  <a:pt x="12804" y="14482"/>
                </a:lnTo>
                <a:cubicBezTo>
                  <a:pt x="13840" y="14482"/>
                  <a:pt x="14640" y="13751"/>
                  <a:pt x="14640" y="12828"/>
                </a:cubicBezTo>
                <a:lnTo>
                  <a:pt x="14640" y="7493"/>
                </a:lnTo>
                <a:lnTo>
                  <a:pt x="12804" y="7493"/>
                </a:lnTo>
                <a:lnTo>
                  <a:pt x="16311" y="3985"/>
                </a:lnTo>
                <a:lnTo>
                  <a:pt x="19984" y="7493"/>
                </a:lnTo>
                <a:lnTo>
                  <a:pt x="18148" y="7493"/>
                </a:lnTo>
                <a:lnTo>
                  <a:pt x="18148" y="12828"/>
                </a:lnTo>
                <a:cubicBezTo>
                  <a:pt x="18148" y="15596"/>
                  <a:pt x="15572" y="18155"/>
                  <a:pt x="12804" y="18155"/>
                </a:cubicBezTo>
                <a:lnTo>
                  <a:pt x="11141" y="18155"/>
                </a:lnTo>
                <a:cubicBezTo>
                  <a:pt x="8374" y="18155"/>
                  <a:pt x="5797" y="15596"/>
                  <a:pt x="5797" y="12828"/>
                </a:cubicBez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5" descr="j0318610[1]"/>
          <p:cNvPicPr/>
          <p:nvPr/>
        </p:nvPicPr>
        <p:blipFill>
          <a:blip r:embed="rId6"/>
          <a:stretch/>
        </p:blipFill>
        <p:spPr>
          <a:xfrm>
            <a:off x="0" y="3141720"/>
            <a:ext cx="1608120" cy="18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6664320" cy="14954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6"/>
          <p:cNvSpPr/>
          <p:nvPr/>
        </p:nvSpPr>
        <p:spPr>
          <a:xfrm>
            <a:off x="1258920" y="47628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ТИЛОВЫЙ СПИРТ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УЧАТЬ РАЗЛИЧНЫМИ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АМИ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179280" y="1484280"/>
            <a:ext cx="896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Arial"/>
              </a:rPr>
              <a:t>БРОЖЕНИ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ИЩЕВЫХ ПРОДУКТ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ДЕРЖАЩИХ САХАРИСТЫЕ ВЕЩ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8"/>
          <p:cNvSpPr/>
          <p:nvPr/>
        </p:nvSpPr>
        <p:spPr>
          <a:xfrm>
            <a:off x="2050920" y="2133720"/>
            <a:ext cx="4753080" cy="1224000"/>
          </a:xfrm>
          <a:prstGeom prst="ellipse">
            <a:avLst/>
          </a:prstGeom>
          <a:solidFill>
            <a:srgbClr val="ffff00">
              <a:alpha val="4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НОГРАД, ФРУКТЫ, ЯГО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ЛАКИ, КАРТОФЕЛЬ, СВ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2103480" y="3592440"/>
            <a:ext cx="55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4"/>
          <p:cNvSpPr/>
          <p:nvPr/>
        </p:nvSpPr>
        <p:spPr>
          <a:xfrm>
            <a:off x="5724360" y="1700280"/>
            <a:ext cx="1625760" cy="1192320"/>
          </a:xfrm>
          <a:custGeom>
            <a:avLst/>
            <a:gdLst>
              <a:gd name="textAreaLeft" fmla="*/ 237960 w 1625760"/>
              <a:gd name="textAreaRight" fmla="*/ 1387800 w 1625760"/>
              <a:gd name="textAreaTop" fmla="*/ 174600 h 1192320"/>
              <a:gd name="textAreaBottom" fmla="*/ 1017720 h 1192320"/>
            </a:gdLst>
            <a:ahLst/>
            <a:rect l="textAreaLeft" t="textAreaTop" r="textAreaRight" b="textAreaBottom"/>
            <a:pathLst>
              <a:path w="21600" h="21600">
                <a:moveTo>
                  <a:pt x="17528" y="14207"/>
                </a:moveTo>
                <a:cubicBezTo>
                  <a:pt x="18063" y="13151"/>
                  <a:pt x="18342" y="11984"/>
                  <a:pt x="18342" y="10800"/>
                </a:cubicBezTo>
                <a:cubicBezTo>
                  <a:pt x="18342" y="6634"/>
                  <a:pt x="14965" y="3258"/>
                  <a:pt x="10800" y="3258"/>
                </a:cubicBezTo>
                <a:cubicBezTo>
                  <a:pt x="8722" y="3257"/>
                  <a:pt x="6737" y="4114"/>
                  <a:pt x="5312" y="5625"/>
                </a:cubicBezTo>
                <a:lnTo>
                  <a:pt x="2942" y="3390"/>
                </a:lnTo>
                <a:cubicBezTo>
                  <a:pt x="4982" y="1226"/>
                  <a:pt x="7825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95"/>
                  <a:pt x="21200" y="14167"/>
                  <a:pt x="20434" y="15679"/>
                </a:cubicBezTo>
                <a:lnTo>
                  <a:pt x="22843" y="16899"/>
                </a:lnTo>
                <a:lnTo>
                  <a:pt x="17025" y="18805"/>
                </a:lnTo>
                <a:lnTo>
                  <a:pt x="15119" y="12987"/>
                </a:lnTo>
                <a:lnTo>
                  <a:pt x="17528" y="1420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15"/>
          <p:cNvSpPr txBox="1"/>
          <p:nvPr/>
        </p:nvSpPr>
        <p:spPr>
          <a:xfrm>
            <a:off x="3708360" y="260280"/>
            <a:ext cx="518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2da2bf"/>
                </a:solidFill>
                <a:latin typeface="Comic Sans MS"/>
              </a:rPr>
              <a:t>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2da2bf"/>
              </a:solidFill>
              <a:latin typeface="Comic Sans MS"/>
              <a:ea typeface="Comic Sans MS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1357200" y="5715000"/>
            <a:ext cx="75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ЧЕННЫЙ ТАКИМ СПОСОБОМ СПИРТ НАЗЫВА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ИЩЕВЫМ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ИН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ПИ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8"/>
          <p:cNvSpPr/>
          <p:nvPr/>
        </p:nvSpPr>
        <p:spPr>
          <a:xfrm>
            <a:off x="1258920" y="2492280"/>
            <a:ext cx="649080" cy="1214640"/>
          </a:xfrm>
          <a:custGeom>
            <a:avLst/>
            <a:gdLst>
              <a:gd name="textAreaLeft" fmla="*/ 86760 w 649080"/>
              <a:gd name="textAreaRight" fmla="*/ 562320 w 649080"/>
              <a:gd name="textAreaTop" fmla="*/ 205560 h 1214640"/>
              <a:gd name="textAreaBottom" fmla="*/ 9536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13" stAng="-5400000" swAng="-5400000"/>
                <a:lnTo>
                  <a:pt x="0" y="13299"/>
                </a:lnTo>
                <a:arcTo wR="21600" hR="7313" stAng="10800000" swAng="-2625563"/>
                <a:lnTo>
                  <a:pt x="14400" y="21182"/>
                </a:lnTo>
                <a:lnTo>
                  <a:pt x="21600" y="17619"/>
                </a:lnTo>
                <a:lnTo>
                  <a:pt x="14400" y="13220"/>
                </a:lnTo>
                <a:lnTo>
                  <a:pt x="14400" y="14208"/>
                </a:lnTo>
                <a:arcTo wR="21600" hR="7313" stAng="8174437" swAng="2107444"/>
                <a:lnTo>
                  <a:pt x="1892" y="10306"/>
                </a:lnTo>
                <a:arcTo wR="21600" hR="7313" stAng="-10281881" swAng="4881881"/>
                <a:close/>
              </a:path>
              <a:path fill="darkenLess" w="21600" h="21600">
                <a:moveTo>
                  <a:pt x="21600" y="0"/>
                </a:moveTo>
                <a:arcTo wR="21600" hR="7313" stAng="-5400000" swAng="-5400000"/>
                <a:lnTo>
                  <a:pt x="0" y="7313"/>
                </a:lnTo>
                <a:arcTo wR="21600" hR="7313" stAng="10800000" swAng="-518119"/>
                <a:lnTo>
                  <a:pt x="1892" y="10306"/>
                </a:lnTo>
                <a:arcTo wR="21600" hR="7313" stAng="-10281881" swAng="4881881"/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0" y="2492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1"/>
          <p:cNvGraphicFramePr/>
          <p:nvPr/>
        </p:nvGraphicFramePr>
        <p:xfrm>
          <a:off x="1908000" y="3429000"/>
          <a:ext cx="5905800" cy="4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2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429000"/>
                    <a:ext cx="59058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22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xit" presetID="21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heel(8)" transition="out">
                                      <p:cBhvr additive="repl">
                                        <p:cTn id="15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6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03120" y="568440"/>
            <a:ext cx="85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2. ГИДРОЛИ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ЦЕЛЛЮЛОЗЫ, СОДЕРЖАЩЕЙСЯ В ДРЕВЕСИНЕ И ОТХОДАХ БУМАЖ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6948360" y="1125360"/>
          <a:ext cx="201636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1125360"/>
                    <a:ext cx="201636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Oval 6"/>
          <p:cNvSpPr/>
          <p:nvPr/>
        </p:nvSpPr>
        <p:spPr>
          <a:xfrm>
            <a:off x="1908000" y="1628640"/>
            <a:ext cx="4896000" cy="1295640"/>
          </a:xfrm>
          <a:prstGeom prst="ellipse">
            <a:avLst/>
          </a:pr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ЕЛЛЮЛОЗА </a:t>
            </a:r>
            <a:r>
              <a:rPr b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ГЛЮКОЗА </a:t>
            </a:r>
            <a:r>
              <a:rPr b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476360" y="55720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рт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дролиз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0" y="429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СПОСОБ ОЧЕНЬ ВЫГОДНЫЙ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0" descr="j0403981[1]"/>
          <p:cNvPicPr/>
          <p:nvPr/>
        </p:nvPicPr>
        <p:blipFill>
          <a:blip r:embed="rId3"/>
          <a:stretch/>
        </p:blipFill>
        <p:spPr>
          <a:xfrm>
            <a:off x="250920" y="2852640"/>
            <a:ext cx="1800000" cy="138132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11"/>
          <p:cNvSpPr/>
          <p:nvPr/>
        </p:nvSpPr>
        <p:spPr>
          <a:xfrm>
            <a:off x="2340000" y="3141720"/>
            <a:ext cx="6119640" cy="2073240"/>
          </a:xfrm>
          <a:prstGeom prst="verticalScroll">
            <a:avLst>
              <a:gd name="adj" fmla="val 7777"/>
            </a:avLst>
          </a:prstGeom>
          <a:solidFill>
            <a:srgbClr val="2da2bf">
              <a:alpha val="33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1т ДРЕВЕС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ПОЛУЧ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0 л ЭТИЛОВОГО СПИ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ИМ МОЖНО СЭКОНОМ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,5 т КАРТОФ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0,7 т ЗЕРН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5">
            <a:hlinkClick r:id="rId4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6300"/>
                            </p:stCondLst>
                            <p:childTnLst>
                              <p:par>
                                <p:cTn id="2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4"/>
          <p:cNvSpPr/>
          <p:nvPr/>
        </p:nvSpPr>
        <p:spPr>
          <a:xfrm>
            <a:off x="1116000" y="33336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ЛОВЫЙ АЛКОГОЛЬ ЯВЛЯЕТСЯ НАИБОЛЕЕ ИЗВЕСТНЫМ И ШИРОКО РАСПРОСТРАНЁННЫМ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РКОТИЧЕСКИМ ВЕЩЕ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"/>
          <p:cNvSpPr/>
          <p:nvPr/>
        </p:nvSpPr>
        <p:spPr>
          <a:xfrm>
            <a:off x="179280" y="1628640"/>
            <a:ext cx="3457800" cy="1440000"/>
          </a:xfrm>
          <a:prstGeom prst="verticalScroll">
            <a:avLst>
              <a:gd name="adj" fmla="val 9421"/>
            </a:avLst>
          </a:prstGeom>
          <a:solidFill>
            <a:srgbClr val="ffff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АБСКИЙ УЧЁ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БУЛЬ ФАРАЖ ПИС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3995640" y="121428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 ВИНО СООБЩАЕТ КАЖДОМУ, КТО ЕГО ПЬЁТ, </a:t>
            </a:r>
            <a:r>
              <a:rPr b="1" lang="ru-RU" sz="2000" spc="-1" strike="noStrike" u="sng">
                <a:solidFill>
                  <a:srgbClr val="cc0099"/>
                </a:solidFill>
                <a:uFillTx/>
                <a:latin typeface="Arial"/>
              </a:rPr>
              <a:t>ЧЕТЫРЕ 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8"/>
          <p:cNvGraphicFramePr/>
          <p:nvPr/>
        </p:nvGraphicFramePr>
        <p:xfrm>
          <a:off x="3780000" y="2133720"/>
          <a:ext cx="146196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133720"/>
                    <a:ext cx="146196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WordArt 10"/>
          <p:cNvSpPr txBox="1"/>
          <p:nvPr/>
        </p:nvSpPr>
        <p:spPr>
          <a:xfrm>
            <a:off x="5364000" y="2492280"/>
            <a:ext cx="2762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НАЧАЛА ПАВЛИНА</a:t>
            </a:r>
            <a:endParaRPr b="1" lang="en-US" sz="2000" spc="1" strike="noStrike">
              <a:ln cap="rnd" w="1260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439" name="Object 18"/>
          <p:cNvGraphicFramePr/>
          <p:nvPr/>
        </p:nvGraphicFramePr>
        <p:xfrm>
          <a:off x="142920" y="3143160"/>
          <a:ext cx="1785960" cy="18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3143160"/>
                    <a:ext cx="17859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WordArt 19"/>
          <p:cNvSpPr txBox="1"/>
          <p:nvPr/>
        </p:nvSpPr>
        <p:spPr>
          <a:xfrm>
            <a:off x="1714680" y="3929040"/>
            <a:ext cx="252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ОТОМ ОБЕЗЪЯНЫ</a:t>
            </a:r>
            <a:endParaRPr b="1" lang="en-US" sz="2000" spc="1" strike="noStrike">
              <a:ln cap="rnd" w="1260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442" name="Object 20"/>
          <p:cNvGraphicFramePr/>
          <p:nvPr/>
        </p:nvGraphicFramePr>
        <p:xfrm>
          <a:off x="4643280" y="3429000"/>
          <a:ext cx="158436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3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3429000"/>
                    <a:ext cx="158436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WordArt 21"/>
          <p:cNvSpPr txBox="1"/>
          <p:nvPr/>
        </p:nvSpPr>
        <p:spPr>
          <a:xfrm>
            <a:off x="6372360" y="3716280"/>
            <a:ext cx="223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ЗАТЕМ ЛЬВА</a:t>
            </a:r>
            <a:endParaRPr b="1" lang="en-US" sz="2000" spc="1" strike="noStrike">
              <a:ln cap="rnd" w="1260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5" name="Picture 22" descr=""/>
          <p:cNvPicPr/>
          <p:nvPr/>
        </p:nvPicPr>
        <p:blipFill>
          <a:blip r:embed="rId7"/>
          <a:stretch/>
        </p:blipFill>
        <p:spPr>
          <a:xfrm>
            <a:off x="2484360" y="5084640"/>
            <a:ext cx="1295640" cy="1389240"/>
          </a:xfrm>
          <a:prstGeom prst="rect">
            <a:avLst/>
          </a:prstGeom>
          <a:ln w="0">
            <a:noFill/>
          </a:ln>
        </p:spPr>
      </p:pic>
      <p:sp>
        <p:nvSpPr>
          <p:cNvPr id="446" name="WordArt 23"/>
          <p:cNvSpPr txBox="1"/>
          <p:nvPr/>
        </p:nvSpPr>
        <p:spPr>
          <a:xfrm>
            <a:off x="3995640" y="537372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И , НАКОНЕЦ, СВИНЬИ</a:t>
            </a:r>
            <a:endParaRPr b="1" lang="en-US" sz="2000" spc="1" strike="noStrike">
              <a:ln cap="rnd" w="1260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7" name="WordArt 24"/>
          <p:cNvSpPr txBox="1"/>
          <p:nvPr/>
        </p:nvSpPr>
        <p:spPr>
          <a:xfrm>
            <a:off x="1619280" y="2492280"/>
            <a:ext cx="6551640" cy="243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2da2bf"/>
                  </a:solidFill>
                  <a:prstDash val="sysDot"/>
                  <a:miter/>
                </a:ln>
                <a:solidFill>
                  <a:srgbClr val="9933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4000" spc="1" strike="noStrike">
              <a:ln w="19080">
                <a:solidFill>
                  <a:srgbClr val="2da2bf"/>
                </a:solidFill>
                <a:prstDash val="sysDot"/>
                <a:miter/>
              </a:ln>
              <a:solidFill>
                <a:srgbClr val="9933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8" name="AutoShape 25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xit" presetID="21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heel(8)" transition="out">
                                      <p:cBhvr additive="repl">
                                        <p:cTn id="24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1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4"/>
          <p:cNvSpPr/>
          <p:nvPr/>
        </p:nvSpPr>
        <p:spPr>
          <a:xfrm>
            <a:off x="468360" y="549360"/>
            <a:ext cx="84963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НОСТЬ В АЛКОГОЛЕ НЕ ВХОДИТ В ЧИСЛО ЕСТЕСТВЕННЫХ ЖИЗНЕННЫХ ПОТРЕБНОСТЕЙ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 ПОТРЕБНОСТЬ В КИСЛОРОДЕ ИЛИ ПИЩЕ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f5f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М ПО СЕБЕ АЛКОГОЛЬ НЕ ИМЕЕТ ПОБУДИТЕЛЬНОЙ СИЛЫ ДЛ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2556000" y="2276640"/>
            <a:ext cx="4752720" cy="987120"/>
          </a:xfrm>
          <a:prstGeom prst="ellipse">
            <a:avLst/>
          </a:prstGeom>
          <a:solidFill>
            <a:srgbClr val="44b9e8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ТРЕ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ЯВЛЯЕТСЯ ПОТОМУ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 flipH="1">
            <a:off x="3635280" y="3357720"/>
            <a:ext cx="790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5508720" y="3357720"/>
            <a:ext cx="863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9"/>
          <p:cNvSpPr/>
          <p:nvPr/>
        </p:nvSpPr>
        <p:spPr>
          <a:xfrm>
            <a:off x="0" y="3716280"/>
            <a:ext cx="4067280" cy="2735280"/>
          </a:xfrm>
          <a:prstGeom prst="irregularSeal2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ПРОИЗВ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3780000" y="3500280"/>
            <a:ext cx="5219640" cy="31417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ff"/>
                </a:solidFill>
                <a:latin typeface="Arial"/>
              </a:rPr>
              <a:t>«ВОСПРОИЗВОДИ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ЫЧАИ,ФОРМЫ, ПРИВЫ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РЕДРАССУД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ЯЗАННЫЕ С 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Л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4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4"/>
          <p:cNvSpPr/>
          <p:nvPr/>
        </p:nvSpPr>
        <p:spPr>
          <a:xfrm>
            <a:off x="179280" y="476280"/>
            <a:ext cx="34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ПОВОДЫ ПЕРВОГО ПРИОБЩЕНИЯ К АЛКОГОЛЮ РАЗНООБРАЗ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ПРОСЛЕЖИВАЮТСЯ ИХ ХАРАКТЕРНЫЕ ИЗМЕНЕНИЯ В ЗАВИСИМОСТИ ОТ ВОЗРАС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3276720" y="126828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356000" y="765000"/>
            <a:ext cx="4788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О 11 Л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ОЕ ЗНАКОМСТВО С АЛКОГОЛЕМ ПРОИСХОДИТ ЛИБО СЛУЧАЙНО, ЛИБО ЕГО ДАЮТ «ДЛЯ АППЕТИТА», «ЛЕЧАТ» ВИНОМ ИЛИ ЖЕ РЕБЁНОК САМ ИЗ ЛЮБОПЫТСТВА ПРОБУЕТ СПИРТ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3419640" y="3860640"/>
            <a:ext cx="1008000" cy="505080"/>
          </a:xfrm>
          <a:prstGeom prst="rightArrow">
            <a:avLst>
              <a:gd name="adj1" fmla="val 50000"/>
              <a:gd name="adj2" fmla="val 498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464000" y="3645000"/>
            <a:ext cx="46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БОЛЕЕ СТАРШЕМ ВОЗРАСТ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ТИВАМИ СТАНОВЯТСЯ: «ПРАЗДНИК», «СЕМЕЙНОЕ ТОРЖЕСТВО», «ГОСТИ»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 rot="1887600">
            <a:off x="3322440" y="5076360"/>
            <a:ext cx="1008000" cy="576360"/>
          </a:xfrm>
          <a:prstGeom prst="rightArrow">
            <a:avLst>
              <a:gd name="adj1" fmla="val 50000"/>
              <a:gd name="adj2" fmla="val 437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500720" y="4809960"/>
            <a:ext cx="4643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 14-15 Л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ЯВЛЯЮТСЯ ПОВОДЫ: «НЕУДОБНО БЫЛО ОТСТАТЬ ОТ РЕБЯТ», «ДРУЗЬЯ УГОВОРИЛИ», «ЗА КОМПАНИЮ», «ДЛЯ ХРАБРОСТИ», ИЗБАВИТЬСЯ ОТ СКУКИ», «СНЯТИЕ НАПРЯЖЕНИЯ», «УТВЕРЖДЕНИЕ В ГРУППЕ ТОВАРИЩЕЙ»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1" descr="AG00317_"/>
          <p:cNvPicPr/>
          <p:nvPr/>
        </p:nvPicPr>
        <p:blipFill>
          <a:blip r:embed="rId1"/>
          <a:stretch/>
        </p:blipFill>
        <p:spPr>
          <a:xfrm>
            <a:off x="250920" y="5589720"/>
            <a:ext cx="782640" cy="10062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2">
            <a:hlinkClick r:id="" action="ppaction://hlinkshowjump?jump=nextslide"/>
          </p:cNvPr>
          <p:cNvSpPr/>
          <p:nvPr/>
        </p:nvSpPr>
        <p:spPr>
          <a:xfrm>
            <a:off x="8677440" y="6453360"/>
            <a:ext cx="466560" cy="404640"/>
          </a:xfrm>
          <a:custGeom>
            <a:avLst/>
            <a:gdLst>
              <a:gd name="textAreaLeft" fmla="*/ 25920 w 466560"/>
              <a:gd name="textAreaRight" fmla="*/ 440640 w 466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02" h="21600">
                <a:moveTo>
                  <a:pt x="0" y="0"/>
                </a:moveTo>
                <a:lnTo>
                  <a:pt x="24902" y="0"/>
                </a:lnTo>
                <a:lnTo>
                  <a:pt x="24902" y="21600"/>
                </a:lnTo>
                <a:lnTo>
                  <a:pt x="0" y="21600"/>
                </a:lnTo>
                <a:close/>
              </a:path>
              <a:path fill="lightenLess" w="24902" h="21600">
                <a:moveTo>
                  <a:pt x="0" y="0"/>
                </a:moveTo>
                <a:lnTo>
                  <a:pt x="24902" y="0"/>
                </a:lnTo>
                <a:lnTo>
                  <a:pt x="23502" y="1400"/>
                </a:lnTo>
                <a:lnTo>
                  <a:pt x="1400" y="1400"/>
                </a:lnTo>
                <a:close/>
              </a:path>
              <a:path fill="darken" w="24902" h="21600">
                <a:moveTo>
                  <a:pt x="24902" y="0"/>
                </a:moveTo>
                <a:lnTo>
                  <a:pt x="24902" y="21600"/>
                </a:lnTo>
                <a:lnTo>
                  <a:pt x="23502" y="20200"/>
                </a:lnTo>
                <a:lnTo>
                  <a:pt x="23502" y="1400"/>
                </a:lnTo>
                <a:close/>
              </a:path>
              <a:path fill="darkenLess" w="24902" h="21600">
                <a:moveTo>
                  <a:pt x="2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2" y="20200"/>
                </a:lnTo>
                <a:close/>
              </a:path>
              <a:path fill="lighten" w="2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2" h="21600">
                <a:moveTo>
                  <a:pt x="5445" y="3794"/>
                </a:moveTo>
                <a:lnTo>
                  <a:pt x="19458" y="10800"/>
                </a:lnTo>
                <a:lnTo>
                  <a:pt x="544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7:13:25Z</dcterms:created>
  <dc:creator>КОТЁНОК</dc:creator>
  <dc:description/>
  <dc:language>en-US</dc:language>
  <cp:lastModifiedBy>Admin</cp:lastModifiedBy>
  <dcterms:modified xsi:type="dcterms:W3CDTF">2023-10-23T18:09:15Z</dcterms:modified>
  <cp:revision>5</cp:revision>
  <dc:subject/>
  <dc:title>СПИРТ:  ДРУГ ИЛИ ВРАГ 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01049</vt:lpwstr>
  </property>
</Properties>
</file>