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99D6-280E-4C69-B81F-70D1E24DDFC0}" type="datetime">
              <a:rPr b="0" lang="ru-RU" sz="1200" spc="-1" strike="noStrike">
                <a:solidFill>
                  <a:srgbClr val="000000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4685-4E56-4B6D-90E3-F45CBC39CD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3F03-2FA8-4E3F-A2CE-A684823AA1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5A29-369B-4E83-AEE4-D39EC0C76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64F1-40FC-4BFE-B829-B924C2E3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FA2E-7AE0-471D-89FB-6741B2231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069E-8FDC-4EB7-8741-A1830E7A1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EBB0-3681-4D56-926E-DE85FED28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F68F0-E263-43CD-AFD8-9F74258C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D77C-ED9E-4217-BA09-29CB4A6C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9191-D03C-4821-B420-7A15760E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83C9-4870-44B6-A5C4-618CF1E5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B856-689D-468D-AC62-034AE2F3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3EB29-4EFD-4ACA-8DAD-A4E4BF8F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3800-831F-44A3-B4B5-2B25AB82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0CE9-7DC2-47FA-B2EC-3031B123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4AD6-4E25-43B9-A805-93088081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5FAC-F0F7-4028-9BD4-2FEA3D6A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EC8E-A60F-467F-8BC6-D87539CD2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BB26-271B-4FB0-B619-E51EF07C5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1A6C3-3389-48FB-B186-54954C9EC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BF4C0-1E0A-4B1D-8B8A-8B631333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EF4A0-CAC2-4EFD-8840-2F4D13EF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57332-5798-4517-B6BA-2973C7FB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9F114-23E7-4F2C-A26E-2F10EAF9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6EE0-E917-4843-A476-A10187C8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BEB21-F011-4A82-8C2F-B649CFCE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216D6-CBAB-47E0-AED3-E02034F4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0C7E0-5D8E-45B2-9E81-4532DDB4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CCADF-E56D-4F9D-B803-25260867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7572C-4889-4A3E-9378-5D5B34A2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226F1-95EC-4339-8947-1B7872248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9A2AE-A9AE-487E-A2F5-1869E579D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95F7C-643A-4CE2-BF59-217A3473E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B7FFB-F194-45C2-8F77-618C2B70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1C386-5388-49F8-A3E7-D70F8196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7D53-4A30-4801-9907-8BFF5353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51612-24C7-4B35-BD12-3C9E55F0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0C3A0-123D-4AE3-9FCC-830CE517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A9174-C9ED-44C0-82BA-34FD6528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34EC1-5921-4BC4-B014-1F97D865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FED40-8EBB-4958-8CC7-63DF98F4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01E3A-1298-4553-AE8A-C780521A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608E0-1C96-4E08-8E89-591DA6C1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449FE-3978-4AA7-91FD-435A02D67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2D188-2957-4FF2-A892-681E54048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DD34-41D8-47DF-AF91-FCCB74F6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8866-BA3A-4AC6-9A4B-B8CF3980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E44D-B526-4EB7-AE02-2504901E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08F9-4235-4FD6-84BA-2D2F6E16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10C7-E734-40AC-8FB1-EE7432C9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12192120" cy="83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12192120" cy="311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12192120" cy="9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7213680" y="359280"/>
            <a:ext cx="4978440" cy="90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7213680" y="438480"/>
            <a:ext cx="4978440" cy="181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7210440" y="496800"/>
            <a:ext cx="408312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9831240" y="58896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12112560" y="-1440"/>
            <a:ext cx="7776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12058560" y="-1440"/>
            <a:ext cx="367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12033360" y="-1440"/>
            <a:ext cx="1260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11966400" y="-1440"/>
            <a:ext cx="3672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11887200" y="0"/>
            <a:ext cx="7308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11831760" y="0"/>
            <a:ext cx="1116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7793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953735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25406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25406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25406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ftr" idx="1"/>
          </p:nvPr>
        </p:nvSpPr>
        <p:spPr>
          <a:xfrm>
            <a:off x="7009920" y="612720"/>
            <a:ext cx="176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95373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953735"/>
                </a:solidFill>
                <a:latin typeface="Times New Roman"/>
              </a:rPr>
              <a:t>Добавить нижний колонтитул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dt" idx="2"/>
          </p:nvPr>
        </p:nvSpPr>
        <p:spPr>
          <a:xfrm>
            <a:off x="8781840" y="612720"/>
            <a:ext cx="127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95373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D1D2-D6E6-4241-A9EC-E109706B06D3}" type="datetime">
              <a:rPr b="0" lang="ru-RU" sz="1100" spc="-1" strike="noStrike">
                <a:solidFill>
                  <a:srgbClr val="953735"/>
                </a:solidFill>
                <a:latin typeface="Times New Roman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10899720" y="1080"/>
            <a:ext cx="1015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6769-E5BC-467F-9BF3-16AF3A0BAAE2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>
            <a:off x="0" y="0"/>
            <a:ext cx="12192120" cy="3701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7213680" y="3809880"/>
            <a:ext cx="4978440" cy="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7213680" y="3896640"/>
            <a:ext cx="4978440" cy="191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7213680" y="4114800"/>
            <a:ext cx="4978440" cy="9360"/>
          </a:xfrm>
          <a:prstGeom prst="rect">
            <a:avLst/>
          </a:prstGeom>
          <a:solidFill>
            <a:srgbClr val="c0504d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7213680" y="4163400"/>
            <a:ext cx="2620800" cy="19080"/>
          </a:xfrm>
          <a:prstGeom prst="rect">
            <a:avLst/>
          </a:prstGeom>
          <a:solidFill>
            <a:srgbClr val="c0504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25"/>
          <p:cNvSpPr/>
          <p:nvPr/>
        </p:nvSpPr>
        <p:spPr>
          <a:xfrm flipV="1">
            <a:off x="7213680" y="4199040"/>
            <a:ext cx="2620800" cy="9360"/>
          </a:xfrm>
          <a:prstGeom prst="rect">
            <a:avLst/>
          </a:prstGeom>
          <a:solidFill>
            <a:srgbClr val="c0504d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213680" y="3962520"/>
            <a:ext cx="40845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40"/>
          <p:cNvSpPr/>
          <p:nvPr/>
        </p:nvSpPr>
        <p:spPr>
          <a:xfrm>
            <a:off x="9834480" y="406080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49680"/>
            <a:ext cx="12192120" cy="24444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>
            <a:off x="0" y="3675240"/>
            <a:ext cx="12192120" cy="1411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 flipV="1">
            <a:off x="8551800" y="3643200"/>
            <a:ext cx="3640320" cy="2476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7793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953735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25406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25406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25406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4"/>
          </p:nvPr>
        </p:nvSpPr>
        <p:spPr>
          <a:xfrm>
            <a:off x="7264440" y="4205160"/>
            <a:ext cx="172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95373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953735"/>
                </a:solidFill>
                <a:latin typeface="Times New Roman"/>
              </a:rPr>
              <a:t>Добавить нижний колонтитул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dt" idx="5"/>
          </p:nvPr>
        </p:nvSpPr>
        <p:spPr>
          <a:xfrm>
            <a:off x="9043920" y="4206960"/>
            <a:ext cx="127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95373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C12B-DE52-40E6-9E5B-5B714F950482}" type="datetime">
              <a:rPr b="0" lang="ru-RU" sz="1100" spc="-1" strike="noStrike">
                <a:solidFill>
                  <a:srgbClr val="953735"/>
                </a:solidFill>
                <a:latin typeface="Times New Roman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11093040" y="1080"/>
            <a:ext cx="996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E8BF-AA0D-462B-89F0-26E8FA5DC40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12192120" cy="83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12192120" cy="311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12192120" cy="9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7213680" y="359280"/>
            <a:ext cx="4978440" cy="90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7213680" y="438480"/>
            <a:ext cx="4978440" cy="181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7210440" y="496800"/>
            <a:ext cx="408312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9831240" y="58896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12112560" y="-1440"/>
            <a:ext cx="7776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12058560" y="-1440"/>
            <a:ext cx="367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12033360" y="-1440"/>
            <a:ext cx="1260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11966400" y="-1440"/>
            <a:ext cx="3672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11887200" y="0"/>
            <a:ext cx="7308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11831760" y="0"/>
            <a:ext cx="1116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7793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953735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25406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25406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25406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7"/>
          </p:nvPr>
        </p:nvSpPr>
        <p:spPr>
          <a:xfrm>
            <a:off x="7009920" y="612720"/>
            <a:ext cx="176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95373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953735"/>
                </a:solidFill>
                <a:latin typeface="Times New Roman"/>
              </a:rPr>
              <a:t>Добавить нижний колонтитул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dt" idx="8"/>
          </p:nvPr>
        </p:nvSpPr>
        <p:spPr>
          <a:xfrm>
            <a:off x="8778600" y="612720"/>
            <a:ext cx="127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95373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8966-A034-4CCB-8D5B-0DF268B21E13}" type="datetime">
              <a:rPr b="0" lang="ru-RU" sz="1100" spc="-1" strike="noStrike">
                <a:solidFill>
                  <a:srgbClr val="953735"/>
                </a:solidFill>
                <a:latin typeface="Times New Roman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10899720" y="1080"/>
            <a:ext cx="1015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5AA4-C0D5-4966-B494-01B5B0B05641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12192120" cy="83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12192120" cy="311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12192120" cy="9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7213680" y="359280"/>
            <a:ext cx="4978440" cy="90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7213680" y="438480"/>
            <a:ext cx="4978440" cy="181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7210440" y="496800"/>
            <a:ext cx="408312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9831240" y="58896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12112560" y="-1440"/>
            <a:ext cx="7776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12058560" y="-1440"/>
            <a:ext cx="367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12033360" y="-1440"/>
            <a:ext cx="1260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11966400" y="-1440"/>
            <a:ext cx="3672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11887200" y="0"/>
            <a:ext cx="7308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11831760" y="0"/>
            <a:ext cx="1116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7793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953735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25406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25406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25406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8781840" y="612720"/>
            <a:ext cx="127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7009920" y="612720"/>
            <a:ext cx="176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10899720" y="1080"/>
            <a:ext cx="1015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923C-16AC-4E00-B993-BE8BE58B9062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85680" y="2120760"/>
            <a:ext cx="11868120" cy="15559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5353200" y="5370480"/>
            <a:ext cx="6603840" cy="712800"/>
          </a:xfrm>
          <a:prstGeom prst="rect">
            <a:avLst/>
          </a:prstGeom>
          <a:solidFill>
            <a:srgbClr val="dce6f2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Autofit/>
          </a:bodyPr>
          <a:p>
            <a:pPr marL="633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Физические свойства спиртов</a:t>
            </a: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223" name="Рисунок 3" descr=""/>
          <p:cNvPicPr/>
          <p:nvPr/>
        </p:nvPicPr>
        <p:blipFill>
          <a:blip r:embed="rId2">
            <a:lum contrast="30000"/>
          </a:blip>
          <a:stretch/>
        </p:blipFill>
        <p:spPr>
          <a:xfrm rot="20887200">
            <a:off x="839520" y="3474720"/>
            <a:ext cx="4827600" cy="2760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24" name="Рисунок 5" descr=""/>
          <p:cNvPicPr/>
          <p:nvPr/>
        </p:nvPicPr>
        <p:blipFill>
          <a:blip r:embed="rId3"/>
          <a:srcRect l="5095" t="7665" r="6524" b="8674"/>
          <a:stretch/>
        </p:blipFill>
        <p:spPr>
          <a:xfrm rot="774600">
            <a:off x="5463720" y="810720"/>
            <a:ext cx="5450040" cy="282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609480" y="1792080"/>
            <a:ext cx="7927920" cy="1611000"/>
          </a:xfrm>
          <a:prstGeom prst="rect">
            <a:avLst/>
          </a:prstGeom>
          <a:solidFill>
            <a:srgbClr val="ffffff"/>
          </a:solidFill>
          <a:ln w="1260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7793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шие спирты (начиная с C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OH) 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комнатной температуре 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вёрдые вещества. 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2" name="Номер слайда 4"/>
          <p:cNvSpPr/>
          <p:nvPr/>
        </p:nvSpPr>
        <p:spPr>
          <a:xfrm>
            <a:off x="10899720" y="1440"/>
            <a:ext cx="101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A72F-BAE2-4A71-ACF1-09828E6B0104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694800"/>
            <a:ext cx="10972800" cy="979560"/>
          </a:xfrm>
          <a:prstGeom prst="rect">
            <a:avLst/>
          </a:prstGeom>
          <a:gradFill rotWithShape="0">
            <a:gsLst>
              <a:gs pos="0">
                <a:srgbClr val="688fc5"/>
              </a:gs>
              <a:gs pos="100000">
                <a:srgbClr val="3a71b2"/>
              </a:gs>
            </a:gsLst>
            <a:lin ang="5400000"/>
          </a:gradFill>
          <a:ln w="648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marL="571680" indent="-57168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Физические свойства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4" name="Прямоугольник 7"/>
          <p:cNvSpPr/>
          <p:nvPr/>
        </p:nvSpPr>
        <p:spPr>
          <a:xfrm>
            <a:off x="609480" y="4524480"/>
            <a:ext cx="7132680" cy="155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мере увеличения углеводородного радикала растворимость спиртов в воде понижается, например октанол уже не смешивается с во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6" descr="g631_3"/>
          <p:cNvPicPr/>
          <p:nvPr/>
        </p:nvPicPr>
        <p:blipFill>
          <a:blip r:embed="rId1"/>
          <a:stretch/>
        </p:blipFill>
        <p:spPr>
          <a:xfrm>
            <a:off x="8777160" y="3138480"/>
            <a:ext cx="2808360" cy="2027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77436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71680" indent="-5716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Источники 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10899720" y="1440"/>
            <a:ext cx="101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D0AF-69F6-4BBD-B11A-03A7FE2CA785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Рисунок 4" descr=""/>
          <p:cNvPicPr/>
          <p:nvPr/>
        </p:nvPicPr>
        <p:blipFill>
          <a:blip r:embed="rId1"/>
          <a:stretch/>
        </p:blipFill>
        <p:spPr>
          <a:xfrm>
            <a:off x="609480" y="1655640"/>
            <a:ext cx="9398160" cy="1503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69" name="Рисунок 5" descr=""/>
          <p:cNvPicPr/>
          <p:nvPr/>
        </p:nvPicPr>
        <p:blipFill>
          <a:blip r:embed="rId2"/>
          <a:stretch/>
        </p:blipFill>
        <p:spPr>
          <a:xfrm>
            <a:off x="7988400" y="2860560"/>
            <a:ext cx="2411280" cy="3610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http://dic.academic.ru/pictures/wiki/files/69/Ethanol-3D-balls.png"/>
          <p:cNvPicPr/>
          <p:nvPr/>
        </p:nvPicPr>
        <p:blipFill>
          <a:blip r:embed="rId1"/>
          <a:stretch/>
        </p:blipFill>
        <p:spPr>
          <a:xfrm>
            <a:off x="6383160" y="2279520"/>
            <a:ext cx="2073600" cy="1420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26" name="TextBox 6"/>
          <p:cNvSpPr/>
          <p:nvPr/>
        </p:nvSpPr>
        <p:spPr>
          <a:xfrm>
            <a:off x="8818560" y="2687760"/>
            <a:ext cx="3029040" cy="51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Н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─СН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─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http://www.dogster.com/wp-content/uploads/2015/05/b27532c3b910b6e7054e9d36bbee751f.png"/>
          <p:cNvPicPr/>
          <p:nvPr/>
        </p:nvPicPr>
        <p:blipFill>
          <a:blip r:embed="rId2"/>
          <a:stretch/>
        </p:blipFill>
        <p:spPr>
          <a:xfrm>
            <a:off x="6296040" y="3700440"/>
            <a:ext cx="2522520" cy="1416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28" name="TextBox 9"/>
          <p:cNvSpPr/>
          <p:nvPr/>
        </p:nvSpPr>
        <p:spPr>
          <a:xfrm>
            <a:off x="8782200" y="3908520"/>
            <a:ext cx="2995560" cy="51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ОН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─СН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─СН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─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7"/>
          <p:cNvSpPr/>
          <p:nvPr/>
        </p:nvSpPr>
        <p:spPr>
          <a:xfrm>
            <a:off x="595440" y="3102120"/>
            <a:ext cx="460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исло гидроксильных групп в молекуле спирта определяет его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томнос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Номер слайда 2"/>
          <p:cNvSpPr/>
          <p:nvPr/>
        </p:nvSpPr>
        <p:spPr>
          <a:xfrm>
            <a:off x="10899720" y="1440"/>
            <a:ext cx="101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BAC4-E739-47B5-8AE2-7AF46049B5FB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Рисунок 5" descr=""/>
          <p:cNvPicPr/>
          <p:nvPr/>
        </p:nvPicPr>
        <p:blipFill>
          <a:blip r:embed="rId3"/>
          <a:stretch/>
        </p:blipFill>
        <p:spPr>
          <a:xfrm>
            <a:off x="1046160" y="412920"/>
            <a:ext cx="9524880" cy="178416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11" descr=""/>
          <p:cNvPicPr/>
          <p:nvPr/>
        </p:nvPicPr>
        <p:blipFill>
          <a:blip r:embed="rId4"/>
          <a:stretch/>
        </p:blipFill>
        <p:spPr>
          <a:xfrm>
            <a:off x="6415200" y="5372280"/>
            <a:ext cx="2344680" cy="1288800"/>
          </a:xfrm>
          <a:prstGeom prst="rect">
            <a:avLst/>
          </a:prstGeom>
          <a:ln w="0">
            <a:noFill/>
          </a:ln>
        </p:spPr>
      </p:pic>
      <p:sp>
        <p:nvSpPr>
          <p:cNvPr id="233" name="TextBox 3"/>
          <p:cNvSpPr/>
          <p:nvPr/>
        </p:nvSpPr>
        <p:spPr>
          <a:xfrm>
            <a:off x="8866080" y="4768920"/>
            <a:ext cx="1704960" cy="207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5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715680"/>
            <a:ext cx="10972800" cy="841320"/>
          </a:xfrm>
          <a:prstGeom prst="rect">
            <a:avLst/>
          </a:prstGeom>
          <a:gradFill rotWithShape="0">
            <a:gsLst>
              <a:gs pos="0">
                <a:srgbClr val="688fc5"/>
              </a:gs>
              <a:gs pos="100000">
                <a:srgbClr val="3a71b2"/>
              </a:gs>
            </a:gsLst>
            <a:lin ang="5400000"/>
          </a:gradFill>
          <a:ln w="648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marL="571680" indent="-57168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Физические свойства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09120" y="1666800"/>
            <a:ext cx="5450040" cy="4641840"/>
          </a:xfrm>
          <a:prstGeom prst="rect">
            <a:avLst/>
          </a:prstGeom>
          <a:solidFill>
            <a:srgbClr val="ffffff"/>
          </a:solidFill>
          <a:ln w="1260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7793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f497d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7793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изшие и средние члены ряда предельных одноатомных спиртов, </a:t>
            </a:r>
            <a:endParaRPr b="0" lang="en-US" sz="2200" spc="-1" strike="noStrike">
              <a:solidFill>
                <a:srgbClr val="1f497d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держащие от одного до одиннадцати атомов углерода, </a:t>
            </a:r>
            <a:endParaRPr b="0" lang="en-US" sz="2200" spc="-1" strike="noStrike">
              <a:solidFill>
                <a:srgbClr val="1f497d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жидкости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1f497d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6" name="Номер слайда 4"/>
          <p:cNvSpPr/>
          <p:nvPr/>
        </p:nvSpPr>
        <p:spPr>
          <a:xfrm>
            <a:off x="10899720" y="1440"/>
            <a:ext cx="101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0C0D-558F-4008-94B1-1740CC6CE39E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спирты - растворимость.avi" descr=""/>
          <p:cNvPicPr/>
          <p:nvPr/>
        </p:nvPicPr>
        <p:blipFill>
          <a:blip r:embed="rId1"/>
          <a:stretch/>
        </p:blipFill>
        <p:spPr>
          <a:xfrm>
            <a:off x="7269120" y="1951200"/>
            <a:ext cx="4259160" cy="36954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" dur="1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715680"/>
            <a:ext cx="10972800" cy="841320"/>
          </a:xfrm>
          <a:prstGeom prst="rect">
            <a:avLst/>
          </a:prstGeom>
          <a:gradFill rotWithShape="0">
            <a:gsLst>
              <a:gs pos="0">
                <a:srgbClr val="688fc5"/>
              </a:gs>
              <a:gs pos="100000">
                <a:srgbClr val="3a71b2"/>
              </a:gs>
            </a:gsLst>
            <a:lin ang="5400000"/>
          </a:gradFill>
          <a:ln w="648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marL="571680" indent="-57168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Физические свойства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666800"/>
            <a:ext cx="7934400" cy="4641840"/>
          </a:xfrm>
          <a:prstGeom prst="rect">
            <a:avLst/>
          </a:prstGeom>
          <a:solidFill>
            <a:srgbClr val="ffffff"/>
          </a:solidFill>
          <a:ln w="1260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7793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f497d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7793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объясняется наличием </a:t>
            </a:r>
            <a:r>
              <a:rPr b="1" lang="ru-RU" sz="2200" spc="-1" strike="noStrike">
                <a:solidFill>
                  <a:srgbClr val="0070c0"/>
                </a:solidFill>
                <a:latin typeface="Arial"/>
                <a:ea typeface="Times New Roman"/>
              </a:rPr>
              <a:t>водородных связей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между молекулами спиртов:</a:t>
            </a:r>
            <a:endParaRPr b="0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240" name="Рисунок 5" descr=""/>
          <p:cNvPicPr/>
          <p:nvPr/>
        </p:nvPicPr>
        <p:blipFill>
          <a:blip r:embed="rId1"/>
          <a:stretch/>
        </p:blipFill>
        <p:spPr>
          <a:xfrm rot="16942800">
            <a:off x="1420560" y="3547440"/>
            <a:ext cx="1942920" cy="2841480"/>
          </a:xfrm>
          <a:prstGeom prst="rect">
            <a:avLst/>
          </a:prstGeom>
          <a:ln w="0">
            <a:noFill/>
          </a:ln>
        </p:spPr>
      </p:pic>
      <p:sp>
        <p:nvSpPr>
          <p:cNvPr id="241" name="Номер слайда 4"/>
          <p:cNvSpPr/>
          <p:nvPr/>
        </p:nvSpPr>
        <p:spPr>
          <a:xfrm>
            <a:off x="10899720" y="1440"/>
            <a:ext cx="101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3422-D11E-49AB-B669-7067BE54BF19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Рисунок 6" descr=""/>
          <p:cNvPicPr/>
          <p:nvPr/>
        </p:nvPicPr>
        <p:blipFill>
          <a:blip r:embed="rId2"/>
          <a:stretch/>
        </p:blipFill>
        <p:spPr>
          <a:xfrm>
            <a:off x="4199040" y="2798640"/>
            <a:ext cx="3485880" cy="96840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7"/>
          <p:cNvSpPr/>
          <p:nvPr/>
        </p:nvSpPr>
        <p:spPr>
          <a:xfrm>
            <a:off x="3822840" y="4282920"/>
            <a:ext cx="4579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одородные связ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никают при взаимодействии частично положительно заряженного атома водорода одной молекулы спирта и частично отрицательно заряженного атома кислорода другой молеку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g631_1"/>
          <p:cNvPicPr/>
          <p:nvPr/>
        </p:nvPicPr>
        <p:blipFill>
          <a:blip r:embed="rId3"/>
          <a:stretch/>
        </p:blipFill>
        <p:spPr>
          <a:xfrm>
            <a:off x="9426600" y="3346560"/>
            <a:ext cx="2233440" cy="2977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3"/>
          <p:cNvSpPr/>
          <p:nvPr/>
        </p:nvSpPr>
        <p:spPr>
          <a:xfrm>
            <a:off x="1941480" y="749160"/>
            <a:ext cx="9468000" cy="2226960"/>
          </a:xfrm>
          <a:prstGeom prst="rect">
            <a:avLst/>
          </a:prstGeom>
          <a:solidFill>
            <a:srgbClr val="ffffff"/>
          </a:solidFill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вязь между атомом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водород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одной молекулы (или ее части) 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атомом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сильно электроотрицательного элемен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фтора, кислорода, азота) другой молекулы (или ее части) называют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водородной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http://ru.static.z-dn.net/files/de6/8cfe548d68bc862cff48d8a30977d242.png"/>
          <p:cNvPicPr/>
          <p:nvPr/>
        </p:nvPicPr>
        <p:blipFill>
          <a:blip r:embed="rId1"/>
          <a:stretch/>
        </p:blipFill>
        <p:spPr>
          <a:xfrm>
            <a:off x="2170080" y="2664000"/>
            <a:ext cx="9015480" cy="37004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C:\Users\Галюня\Documents\биология - 6\картинки\4.jpg"/>
          <p:cNvPicPr/>
          <p:nvPr/>
        </p:nvPicPr>
        <p:blipFill>
          <a:blip r:embed="rId2"/>
          <a:stretch/>
        </p:blipFill>
        <p:spPr>
          <a:xfrm>
            <a:off x="517680" y="776160"/>
            <a:ext cx="1233360" cy="1762200"/>
          </a:xfrm>
          <a:prstGeom prst="rect">
            <a:avLst/>
          </a:prstGeom>
          <a:ln w="9360">
            <a:solidFill>
              <a:srgbClr val="0070c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48" name="Номер слайда 2"/>
          <p:cNvSpPr/>
          <p:nvPr/>
        </p:nvSpPr>
        <p:spPr>
          <a:xfrm>
            <a:off x="10899720" y="1440"/>
            <a:ext cx="101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0082-AC9E-4986-B18F-AEA1308B42BE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Физические свойства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Метанол (древесный спирт) –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7793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жидкость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7793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без цвета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7793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с характерным запахом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7793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</a:rPr>
              <a:t>t</a:t>
            </a:r>
            <a:r>
              <a:rPr b="0" lang="ru-RU" sz="2800" spc="-1" strike="noStrike" baseline="-25000">
                <a:solidFill>
                  <a:srgbClr val="1f497d"/>
                </a:solidFill>
                <a:latin typeface="Arial"/>
              </a:rPr>
              <a:t>кипения 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= 64,7</a:t>
            </a:r>
            <a:r>
              <a:rPr b="0" lang="ru-RU" sz="2800" spc="-1" strike="noStrike" baseline="50000">
                <a:solidFill>
                  <a:srgbClr val="1f497d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7793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сильный яд 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(вызывает потерю зрения, 50 мл – смерть )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251" name="Picture 8" descr="http://www.nanotechetc.com/wp-content/uploads/2014/03/methanol.jpg"/>
          <p:cNvPicPr/>
          <p:nvPr/>
        </p:nvPicPr>
        <p:blipFill>
          <a:blip r:embed="rId1"/>
          <a:stretch/>
        </p:blipFill>
        <p:spPr>
          <a:xfrm>
            <a:off x="8247240" y="1469880"/>
            <a:ext cx="3300120" cy="350676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Этанол – 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7793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жидкость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7793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без цвета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7793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с характерным запахом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7793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</a:rPr>
              <a:t>t</a:t>
            </a:r>
            <a:r>
              <a:rPr b="0" lang="ru-RU" sz="2800" spc="-1" strike="noStrike" baseline="-25000">
                <a:solidFill>
                  <a:srgbClr val="1f497d"/>
                </a:solidFill>
                <a:latin typeface="Arial"/>
              </a:rPr>
              <a:t>кипения 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= 78,3</a:t>
            </a:r>
            <a:r>
              <a:rPr b="0" lang="ru-RU" sz="2800" spc="-1" strike="noStrike" baseline="50000">
                <a:solidFill>
                  <a:srgbClr val="1f497d"/>
                </a:solidFill>
                <a:latin typeface="Arial"/>
              </a:rPr>
              <a:t>0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7793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неограниченно растворим в воде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7793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токсичен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254" name="Picture 6" descr="http://900igr.net/datai/khimija/Voprosy-po-khimii/0009-009-Spirty.jpg"/>
          <p:cNvPicPr/>
          <p:nvPr/>
        </p:nvPicPr>
        <p:blipFill>
          <a:blip r:embed="rId1"/>
          <a:stretch/>
        </p:blipFill>
        <p:spPr>
          <a:xfrm>
            <a:off x="7523280" y="2271600"/>
            <a:ext cx="4279680" cy="364824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122400"/>
            <a:ext cx="10058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Rockwell Extra Bold"/>
              </a:rPr>
              <a:t>Физические свойства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110746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Times New Roman"/>
              </a:rPr>
              <a:t>Запах  </a:t>
            </a: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Times New Roman"/>
              </a:rPr>
              <a:t>  </a:t>
            </a:r>
            <a:r>
              <a:rPr b="0" lang="ru-RU" sz="3900" spc="-1" strike="noStrike">
                <a:solidFill>
                  <a:srgbClr val="1f497d"/>
                </a:solidFill>
                <a:latin typeface="Times New Roman"/>
              </a:rPr>
              <a:t>С</a:t>
            </a:r>
            <a:r>
              <a:rPr b="0" lang="ru-RU" sz="3900" spc="-1" strike="noStrike" baseline="-25000">
                <a:solidFill>
                  <a:srgbClr val="1f497d"/>
                </a:solidFill>
                <a:latin typeface="Times New Roman"/>
              </a:rPr>
              <a:t>1</a:t>
            </a:r>
            <a:r>
              <a:rPr b="0" lang="ru-RU" sz="3900" spc="-1" strike="noStrike">
                <a:solidFill>
                  <a:srgbClr val="1f497d"/>
                </a:solidFill>
                <a:latin typeface="Times New Roman"/>
              </a:rPr>
              <a:t>-С</a:t>
            </a:r>
            <a:r>
              <a:rPr b="0" lang="ru-RU" sz="3900" spc="-1" strike="noStrike" baseline="-25000">
                <a:solidFill>
                  <a:srgbClr val="1f497d"/>
                </a:solidFill>
                <a:latin typeface="Times New Roman"/>
              </a:rPr>
              <a:t>3</a:t>
            </a:r>
            <a:r>
              <a:rPr b="0" lang="ru-RU" sz="3900" spc="-1" strike="noStrike">
                <a:solidFill>
                  <a:srgbClr val="1f497d"/>
                </a:solidFill>
                <a:latin typeface="Times New Roman"/>
              </a:rPr>
              <a:t>- «спиртовой» запах</a:t>
            </a:r>
            <a:endParaRPr b="0" lang="en-US" sz="3900" spc="-1" strike="noStrike">
              <a:solidFill>
                <a:srgbClr val="1f497d"/>
              </a:solidFill>
              <a:latin typeface="Arial"/>
            </a:endParaRPr>
          </a:p>
          <a:p>
            <a:pPr lvl="1"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Times New Roman"/>
              </a:rPr>
              <a:t>С</a:t>
            </a:r>
            <a:r>
              <a:rPr b="0" lang="ru-RU" sz="3600" spc="-1" strike="noStrike" baseline="-25000">
                <a:solidFill>
                  <a:srgbClr val="1f497d"/>
                </a:solidFill>
                <a:latin typeface="Times New Roman"/>
              </a:rPr>
              <a:t>4</a:t>
            </a:r>
            <a:r>
              <a:rPr b="0" lang="ru-RU" sz="3600" spc="-1" strike="noStrike">
                <a:solidFill>
                  <a:srgbClr val="1f497d"/>
                </a:solidFill>
                <a:latin typeface="Times New Roman"/>
              </a:rPr>
              <a:t>-С</a:t>
            </a:r>
            <a:r>
              <a:rPr b="0" lang="ru-RU" sz="3600" spc="-1" strike="noStrike" baseline="-25000">
                <a:solidFill>
                  <a:srgbClr val="1f497d"/>
                </a:solidFill>
                <a:latin typeface="Times New Roman"/>
              </a:rPr>
              <a:t>6</a:t>
            </a:r>
            <a:r>
              <a:rPr b="0" lang="ru-RU" sz="3600" spc="-1" strike="noStrike">
                <a:solidFill>
                  <a:srgbClr val="1f497d"/>
                </a:solidFill>
                <a:latin typeface="Times New Roman"/>
              </a:rPr>
              <a:t>- «сивушный» запах</a:t>
            </a: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  <a:p>
            <a:pPr lvl="1"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Times New Roman"/>
              </a:rPr>
              <a:t>С</a:t>
            </a:r>
            <a:r>
              <a:rPr b="0" lang="ru-RU" sz="3600" spc="-1" strike="noStrike" baseline="-25000">
                <a:solidFill>
                  <a:srgbClr val="1f497d"/>
                </a:solidFill>
                <a:latin typeface="Times New Roman"/>
              </a:rPr>
              <a:t>11</a:t>
            </a:r>
            <a:r>
              <a:rPr b="0" lang="ru-RU" sz="3600" spc="-1" strike="noStrike">
                <a:solidFill>
                  <a:srgbClr val="1f497d"/>
                </a:solidFill>
                <a:latin typeface="Times New Roman"/>
              </a:rPr>
              <a:t>- запаха нет</a:t>
            </a: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  <a:p>
            <a:pPr lvl="1"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  <a:hlinkClick r:id="rId1" action="ppaction://hlinksldjump"/>
              </a:rPr>
              <a:t>Растворимость в воде</a:t>
            </a:r>
            <a:r>
              <a:rPr b="1" lang="ru-RU" sz="3600" spc="-1" strike="noStrike">
                <a:solidFill>
                  <a:srgbClr val="1f497d"/>
                </a:solidFill>
                <a:latin typeface="Times New Roman"/>
              </a:rPr>
              <a:t>, легче воды</a:t>
            </a:r>
            <a:r>
              <a:rPr b="1" lang="ru-RU" sz="3600" spc="-1" strike="noStrike" u="sng">
                <a:solidFill>
                  <a:srgbClr val="1f497d"/>
                </a:solidFill>
                <a:uFillTx/>
                <a:latin typeface="Times New Roman"/>
              </a:rPr>
              <a:t>.</a:t>
            </a: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  <a:p>
            <a:pPr lvl="1"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Times New Roman"/>
              </a:rPr>
              <a:t>высокая </a:t>
            </a:r>
            <a:r>
              <a:rPr b="0" lang="ru-RU" sz="3200" spc="-1" strike="noStrike">
                <a:solidFill>
                  <a:srgbClr val="1f497d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0504d"/>
                </a:solidFill>
                <a:latin typeface="Times New Roman"/>
              </a:rPr>
              <a:t>Б/цвета</a:t>
            </a:r>
            <a:r>
              <a:rPr b="0" lang="ru-RU" sz="3200" spc="-1" strike="noStrike">
                <a:solidFill>
                  <a:srgbClr val="c0504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257" name="Picture 4" descr="g631_1"/>
          <p:cNvPicPr/>
          <p:nvPr/>
        </p:nvPicPr>
        <p:blipFill>
          <a:blip r:embed="rId2"/>
          <a:stretch/>
        </p:blipFill>
        <p:spPr>
          <a:xfrm>
            <a:off x="8939160" y="1670040"/>
            <a:ext cx="2857680" cy="2955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1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1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ffcc"/>
                </a:solidFill>
                <a:latin typeface="Arial"/>
              </a:rPr>
              <a:t>Физические свойства</a:t>
            </a:r>
            <a:r>
              <a:rPr b="0" lang="ru-RU" sz="43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4300" spc="-1" strike="noStrike">
              <a:solidFill>
                <a:srgbClr val="1f497d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711360" y="1341360"/>
          <a:ext cx="4470120" cy="5241960"/>
        </p:xfrm>
        <a:graphic>
          <a:graphicData uri="http://schemas.openxmlformats.org/drawingml/2006/table">
            <a:tbl>
              <a:tblPr/>
              <a:tblGrid>
                <a:gridCol w="2438280"/>
                <a:gridCol w="2031840"/>
              </a:tblGrid>
              <a:tr h="79020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а спирт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 кипения (С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96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</a:t>
                      </a:r>
                      <a:r>
                        <a:rPr b="0" lang="ru-RU" sz="2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,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0" lang="ru-RU" sz="2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,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0" lang="ru-RU" sz="2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,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0" lang="ru-RU" sz="2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,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0" lang="ru-RU" sz="2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,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0" lang="ru-RU" sz="2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,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0" lang="ru-RU" sz="2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6,3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0" name="Picture 43" descr="o242"/>
          <p:cNvPicPr/>
          <p:nvPr/>
        </p:nvPicPr>
        <p:blipFill>
          <a:blip r:embed="rId1"/>
          <a:stretch/>
        </p:blipFill>
        <p:spPr>
          <a:xfrm>
            <a:off x="5689440" y="1981080"/>
            <a:ext cx="6096240" cy="281952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8T15:17:03Z</dcterms:created>
  <dc:creator>Кунова</dc:creator>
  <dc:description/>
  <dc:language>en-US</dc:language>
  <cp:lastModifiedBy>Admin</cp:lastModifiedBy>
  <dcterms:modified xsi:type="dcterms:W3CDTF">2023-10-15T06:52:34Z</dcterms:modified>
  <cp:revision>48</cp:revision>
  <dc:subject/>
  <dc:title>СПИР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AA3F7D94069FF64A86F7DFF56D60E3BE</vt:lpwstr>
  </property>
</Properties>
</file>